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2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</p:sldMasterIdLst>
  <p:notesMasterIdLst>
    <p:notesMasterId r:id="rId158"/>
  </p:notesMasterIdLst>
  <p:sldIdLst>
    <p:sldId id="256" r:id="rId159"/>
    <p:sldId id="257" r:id="rId160"/>
    <p:sldId id="258" r:id="rId161"/>
    <p:sldId id="259" r:id="rId162"/>
    <p:sldId id="260" r:id="rId163"/>
    <p:sldId id="261" r:id="rId164"/>
    <p:sldId id="262" r:id="rId165"/>
    <p:sldId id="263" r:id="rId166"/>
    <p:sldId id="264" r:id="rId167"/>
    <p:sldId id="265" r:id="rId16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notesMaster" Target="notesMasters/notesMaster1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slide" Target="slides/slide7.xml"/><Relationship Id="rId166" Type="http://schemas.openxmlformats.org/officeDocument/2006/relationships/slide" Target="slides/slide8.xml"/><Relationship Id="rId167" Type="http://schemas.openxmlformats.org/officeDocument/2006/relationships/slide" Target="slides/slide9.xml"/><Relationship Id="rId168" Type="http://schemas.openxmlformats.org/officeDocument/2006/relationships/slide" Target="slides/slide10.xml"/><Relationship Id="rId1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dt" idx="169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 type="sldNum" idx="170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BA3751-28DA-4784-8F84-FFA0DA55988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C7F01-7A0E-4EB2-9629-783F4691E3A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973124-D314-4C83-B188-9915F5F16E9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6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F4326-97E1-4F81-88A4-D382744AAB1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982E9-2FA1-44F1-9838-EBEC028B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FD7BB1-38FE-4B15-8F6E-CBFFA100456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A7755A-6369-4824-9C70-2965A9BE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96C677-C3B5-4CDB-9EEA-4282E41CE25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F26254-AF8E-4D0F-B041-62CDD8FA2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2357EC-24DF-4CCB-81E3-977146051EA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C3588-37BF-4438-BE16-04548579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208C22-DC6C-4C2B-B512-342A7702074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C9054-55C4-45A4-AEFE-28B0F750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BDB17A-FBB4-406E-9C3B-B807A14D4D3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25C597-D858-480B-90CF-77A99219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0671F2-63B5-4EB4-A1E6-5B9E9237ACB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383E44-C6EE-4CEA-9B7B-0B9BBD8E8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C63A7E-C213-4B23-BC7A-C00842C38DC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EBC9C9-FC41-4591-8A94-9CCC3E59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709B-EEF6-4C90-9A80-C0C884FEF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4D0B-060F-4A3F-A783-1C327DCBA6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C569-A9F9-40AE-9841-7E66246C9E74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C738EFA-90A8-4344-98F5-8AC3C0D629D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2D9C40C-31C0-4CCB-B6AE-EE08B511F8AA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45A72C5-5BF8-4DAC-8FA8-F2AE7BFA1812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639B9F8-957B-46F5-884D-CC36562C0D5C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8DA6CFA-7D68-4E8B-8FF5-3B00AE0E83F1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5212BB2-765E-49A9-B374-D1CF6745B25E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4FC869C-276F-4324-A6ED-A18FA15272A2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48448C-C2AC-4DB2-851B-C528A098A8CA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0AAE313-6973-4357-B1A3-D73A02A74CB2}" type="slidenum">
              <a:t>&lt;#&gt;</a:t>
            </a:fld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08B2462-BDD8-4735-B961-F304EF1FB3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F5F5-8A6E-44E7-8155-7A244F01B3ED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F63D79-A792-4C50-9B9B-98B45F7BF250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7DD6A88-BD71-4333-A647-4C5A5B28102D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1A5FFF-78A9-4BEF-999E-C7E5C6440ABB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317679-FEF5-47A3-9872-8FA991B58559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125D0E0-A2B9-43AD-9DA4-7D33580A7387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C006E9-0CE3-49F4-8609-B13AC38E0F33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C00608-1FE1-4C7B-AFF0-75E5931F1555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F7863A-8C40-4797-9A89-05A96A1F7EBF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20BBDD-FFC1-44FE-A0C6-12F9EE8CDB27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E24E542-A976-4553-B88A-87BD8D24A9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B128-1D27-4BBE-84F8-D4AC50D95EAD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4127DCC-6898-4E70-B570-D38B31FBAE87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BEC696-2C11-482B-81A9-5BAD3DABCB17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73040-3BCC-4A8D-AD19-6F5460A267EC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2556A0-D017-4215-83B5-4E4340245115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1BE57-4CF7-4EAF-92CB-EE9E6CC3A286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075DBD-8A19-4CCA-B316-A9ED0CF8BD1A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B22BA3-BC88-4161-81AA-252BAEC7FA69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6D2B2C-5708-4F33-8B2E-70506A186F1E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54CAD6-AA79-4B5D-AB2D-181BDA44A8AE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3E60F3-FF47-48E0-93A3-C4BFB74319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BF47-23D5-4BD5-826D-DAFE0263C2F9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655491-CEC5-4B67-9EC2-33B2D44D7EA8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5C3347-41F0-48C8-B992-4662776E0569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343989-7A58-4FBE-9ED6-B4D94A2A6DD4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12DD2FF-6338-4778-855B-D176BFAE7EB7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A0B7C81-3169-4C1E-865D-A0B3D6E87BF8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860BE6-9369-4DE7-9BBA-14FF87F68C5F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0DEF9E-4720-47E1-8CDA-29692E212D18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800CD15-DEB6-4FA7-A8DF-F6A29D0A897F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1ED76D9-E1B5-47F1-8C78-D6F6FCEB8092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602FB56-4F1E-47B4-9FAD-38FFB1E16E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4620-5F14-4839-A43E-EA14AFD33C40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D4A2695-684C-417E-AE8A-3D3E2E810917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BD12DDE-8C91-4DE3-B2EF-433289B71947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9324134-9D90-4473-9910-E49A3E780BA7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470A769-386C-4199-A345-D75A59C7DDE0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2A35935-16D2-4D44-8E21-7B6BCCA885F4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792583-7D2A-46DA-B4E7-0A6C2086F0F6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8952098-6F7D-40AE-9932-5EDFEB97B6D3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A781F32-B4C7-4D26-A128-F4BDD28BC2BA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2B7DC10-CDFA-4225-A0DA-F417C5FB5071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0FB0F40-B3C1-4746-8B87-6DFDB212E0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6C9E-743D-4733-B801-7F67558032C5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99A9B4F-2FA6-4864-8773-12D78BBF69D3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55B63CE-C09F-439A-86D3-9B721572C1C8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A70488E-D150-44B0-AF3A-BD8CBBC99ABE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D6ED911-A97E-48CC-AB0C-F173CED1557A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8A86315-2BB3-4C88-A256-B034C53F1D4D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19121AA-BA8C-4045-A07A-E5D65BC4CDD4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312689-773C-4A79-A895-20A774FB7469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698E29-6A5D-41EB-ACF9-646F1D3DE87E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422193-F0CD-4A06-AE76-9479FECF7C40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77565F-A503-4D6E-B1CA-D4EE81D652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FED6-4C9C-4CFC-8FAC-A2BAB0E358A1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7EBEF4-4AE8-46D0-945C-D01B34316DDF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2B4C9F-45FB-40B1-86AD-B970C86A1E24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0350EF-AFED-4FB0-B3F1-6CE67DFED7A2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13170-F22F-4C1C-91C6-4DF10B37964D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DA1944-E030-46DC-9A36-3B9197A7EB63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4BAF3B-8C2A-48C0-95CB-A7609D97BEF6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BD1BF-8BFF-4E88-AF0E-74DF8320DFEE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772511-2EA0-4730-9C5C-BE5E3611D85A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99EC56-16E4-4F0A-BEC7-C9DC8020A25D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E88F77-2A6F-4638-8DE2-A300E047B46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56F1-DB41-4C0D-B6FF-2DDE5AF152EE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1BE5A26-4ECA-49E6-B83B-FAA365BE023A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62BAF31-C1EE-46F8-9816-FAFF86066D2E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29F9E81-FEBA-414C-A392-CCF80EFD0C5E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505235-4935-454F-80C5-6EA0C697A11B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3501BAA-95AE-465A-B3AB-670414C886AD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CAAFF23-4A04-4BD3-BAB9-E4018D5253F6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7931906-1573-4D6D-A0ED-65B532B57FFF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D5EDA74-9C12-4D35-B364-B46AF5ED4CC4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61B98D0-F825-4500-9B55-B26D6C4D8785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261C759-D6CB-4FF9-A5AF-BE38A68E32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EE54-3977-4724-9E94-18C453CC8CB4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50E5BD1-1624-48E3-A9E9-7B2E699A4843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F15FB39-2AE8-4420-9D8D-08657A430EDC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8362D3-2D18-418F-B2FC-EA51029793CA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C9B45BC-6000-490D-B2A3-7153ADAD31D5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BA03327-BB71-4A49-A626-63348A68392E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D40BD89-372F-4853-AF1D-24F66DA050FB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6308CFF-D85E-47CF-87D4-AC69F3FAE071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F6F1E7C-68C6-4E41-B0E8-2E561C655EB8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3C6FE3-C8D2-4555-85AC-2A2DFCD9D437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4C896E-DCD1-485F-BBEA-FBCE7AE1B2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40E9A-6C30-4528-9915-E4828B8F5BDD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C09E38-9443-4B0B-BFB4-AD0903EFE404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E5C1982-247D-4FCA-8850-C50CF8160114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CA8E006-4402-40F7-ADFB-F71E64403755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830647-ECDA-4E09-995D-9324B07CBBCA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69621E-E9B9-402A-B234-B5A376D70761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A9F868-7AF8-45EF-9B49-E1C84DC314EC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C28FB0-4898-4149-A4CC-A77DDF213151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60C555-A13E-475C-A64D-9CA156F18F09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B07FCD-8C5B-4454-82E9-6FA0A7CD997D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38971-8CCC-48A4-A6B1-EB848F427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8AEE-3162-4A6E-8627-B8546B3D25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736A2-FA63-4C33-B28E-6487972B48E6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4B23C0-8076-413D-9861-BFDC587E9DBF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0722E1-5545-4B4A-9109-9C1A390D7CCC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B37406-A186-46F9-BF86-F01FFC653914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40E225-97A3-46AA-AA93-7267E49E6249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93DD9A-4CBC-45FA-B1CB-844B07AB9AFE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3DDCAE-393E-4C84-AAE8-F4C99D5DA53B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30432F5-960F-4C5F-9AA5-01AC93FE0B16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D2B784C-31AE-47F4-8B91-18CCA4F5E74B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070173-D7BF-4337-B59F-ED3E29BD7AD7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18BABA9-5D4D-4F71-835F-AC8C1DD693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ABFEB-CCCF-40A6-A45A-52D67580951C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BCC41B-4AA9-4AA5-992B-5A7255B018B3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CFB231E-087C-4DE9-9913-107DD556911C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C619BD-0539-4E39-9925-C62E0001A92C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A949CB4-1942-4446-B5BE-0E4D05D1914D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D64B4A-855F-4477-A087-F67432B60169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912DE0B-4037-4BE2-BDEC-32577B04FA0D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55E6DCB-59EE-4471-8D0A-F9BE1D9CDF78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C23928F-70C2-4359-8D0E-CA379CB41F22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7596E44-4D06-430B-8F7E-9645FC975F8E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890B88E-BBA8-4628-96ED-E8CAF0587B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AB7B0-A573-495D-BBD6-DE37A115CD23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C807591-0B94-46A3-9361-40E02CB5D970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41FFF3-D889-4B4E-93B0-ACF6E7FAD66F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7162E4A-D763-4976-B76F-F6E91EB66AEA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4D13601-F5A4-4797-8C34-4CE07C059D0D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E019E61-C6D8-4836-BD7F-DD9D48E54EE2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BA6C6AF-D7E4-4E1E-95B9-1977B7554C7B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48E262D-A533-4757-9064-D91CD6741F74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73BF7D3-C92E-45C6-B475-70D034F8751B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91C0FB-6CB1-4DA7-A28E-F4BDFCC912D9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C2DB0-D2B0-48D3-9CC2-970DA307B3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3ACD3-560C-46E9-B9EA-A805D265C3F3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3DE970-6448-41FA-A666-91E858204BEC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860149-F64A-428B-B6D5-1C989C30CA02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3BC61C-535E-422C-9298-D73BDBD86B18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AD7341-E5A9-49AC-A550-AE88C376E665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6CD450-5784-4BCF-B917-F83B9479E168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7CAA84-94E4-4FAE-BA3A-1CB95E2CA4C5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57BAC7-2353-4F0E-9CC9-3A8AD2C16806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0A1E3B-0064-4E71-B264-61E8BC4128C0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222A9C-ADE3-483D-A416-FBE9E733519B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7B77C7-CB8E-4E80-99EC-BB853454B31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CD938-FCA1-4A9D-9909-E89E04D56FF6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2E2B8D-DBF6-4018-ACA0-CED20ABAB28B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87DA3D5-BD2D-4E39-8403-530527C338D3}" type="slidenum">
              <a:t>&lt;#&gt;</a:t>
            </a:fld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AF4F8F-56B5-4FFB-9391-57474534A204}" type="slidenum">
              <a:t>&lt;#&gt;</a:t>
            </a:fld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177F79-25F6-4C2A-910A-C05C11A60F4E}" type="slidenum">
              <a:t>&lt;#&gt;</a:t>
            </a:fld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B86538-CD11-40FE-B22B-BB6FA5CFA399}" type="slidenum">
              <a:t>&lt;#&gt;</a:t>
            </a:fld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A3C5BC-4238-448D-839E-26BB585C015A}" type="slidenum">
              <a:t>&lt;#&gt;</a:t>
            </a:fld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932BA43-03B9-4A08-9341-17592F6EA5C8}" type="slidenum">
              <a:t>&lt;#&gt;</a:t>
            </a:fld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29ACD68-79FE-4AE9-8533-5B76196D76BA}" type="slidenum">
              <a:t>&lt;#&gt;</a:t>
            </a:fld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76A2407-2928-4155-80B0-C616AF35D6A3}" type="slidenum">
              <a:t>&lt;#&gt;</a:t>
            </a:fld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954BADF-22C2-4822-B31A-DB5B405BAF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A9634-3E98-4197-9B7C-B7F8A64B96BF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2D88B9-62E1-44DE-83F5-396726D47F29}" type="slidenum">
              <a:t>&lt;#&gt;</a:t>
            </a:fld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42AB87-713E-491C-8FB2-AD6761F378C1}" type="slidenum">
              <a:t>&lt;#&gt;</a:t>
            </a:fld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D473F96-FAE4-40C0-9829-E4CD5E911FE2}" type="slidenum">
              <a:t>&lt;#&gt;</a:t>
            </a:fld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837501F-AB56-420A-A3EB-430DD3B9BA09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0457B22-E068-48C2-A07D-9F49E0ED9DE6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922748E-4DA6-4C36-9EAE-C40899A49D82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2FD8C30-B141-4BCF-9474-479DFDB57C9E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5BE8BD9-F0E0-4CA4-969A-201B4FD7E336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FCB3F3C-7DF2-4290-ACF5-835A9E519FA6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E0AD3D2-4FAA-436E-93E6-CD5BE4E1DB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8B14D-A853-4E4E-B2D8-7945C2CA650F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17A17E8-B3EF-4ADA-8DA5-48305514C38C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F3DDEAE-9FF6-4C39-9B56-64B08DDB762F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DDEB14-B9AD-422D-BC3D-C4355DCB5EA5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143588-F92E-49AE-A429-EDCF5D9CCF36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728362-1726-494C-B506-90ECAE0DD376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84B67C-D0FA-4D8F-80DC-55441E458FA6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A1456E-C9FD-43EF-B98C-69B9F64619F0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D3E149-B79E-492D-B971-9E7975DCBA34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05F6C8-7814-4531-829A-18A6EACC0BE4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3429ED-49E4-4BD7-B2C9-ACDABD5D77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B4D84-40E2-42DF-BC52-DF54914AD0AB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688677-573B-467A-8115-6DCC5CD322DC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199A5C-79EC-4336-94EC-4A03AE6899E5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35369F-249E-48BA-A092-2490678B0AB5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C0957A-DB2E-45AA-B917-E046E5C7BD79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43B197-1DAF-4219-8B13-BAA98C4D72D8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B0B7CD-0EC0-403D-96BF-EC38781908F4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876DB2-0282-45EA-83F1-37E2A1F8413A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97F8B07-69FA-4E76-A23B-63BE92B93A52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79287F-09E1-4D4D-A522-99FE6DBD8FB5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3258A6A-D790-4181-9DBF-CD78A464334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40DAE-0D4B-4181-AA3B-21CC759777DF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7B8465-837B-41EA-B1E5-DB2B4E5A271D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85F2F8-4CC2-4295-8997-C6F97DECA835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B30AC3-0ECC-4193-9CBC-211F40F8B5A7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34B89A-B910-45C7-AD0A-1D52472986D8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6E145E-E639-413B-9C51-354CD5E404F8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BE0FF7-78EC-4410-8DD0-781EBE1E4D6F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814F6D5-1505-42AF-BECB-CFA47AD51C0A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D6E757F-AD23-4DBF-B7AF-53D43F48FA1F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E7C0CA0-B483-4DD8-A2A5-154DED2794C8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69916C0-B053-494C-91BE-BBFC5F4CE0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F970D-04B7-4AF9-AA12-8C8DF5337D5C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2A6411A-CA2A-40CF-811A-2A13EB899D1E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80FD0F3-0E8D-4296-A930-2321F40CA799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2015D03-2C17-4D07-8391-DA16EDB58B51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9264D58-5DD2-4157-A53F-D1F30392C927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7F6D51B-6E75-467B-9660-0D350E09CE5B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44A3F6D-5514-4959-A503-1A0C86940B08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E71AC8A-6662-497E-9F22-D82998D4750C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AD99C82-0C7F-404B-9B8E-658D0F6E66F6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9A14286-C7DB-430A-8B46-166AE1F01FAA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CB4B1B8-B89B-4940-BFA2-DA2B3EBDF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A3C4-0D77-45F8-AB75-E12B9BE6D0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2DD0D-CE04-41CE-A126-B38CA98A84D2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54D9B12-CCD4-4EB1-8E96-FE956540827D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149954-1155-4B4F-8F98-37C927841A83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3D4872-E7C4-4B3D-9303-5154B48E9F27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28ADE8-8E91-4272-9123-2207D4B4CE1B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9594B6-EBD2-42F9-A75F-4E04FF93A613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A66B5E-BC86-4B30-BD96-0AD365D23A6B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D0A0FF-1139-45AC-9C80-84EA68EC9689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E77300-6BCB-4885-AE86-BE9624E7096B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B0C32D-0458-4BD6-B1F0-263461E7496B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6EE524-42C6-4197-B7CC-3207841134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938F5-1811-4E19-8FD3-97BFD491121E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AAA82-1CDB-49D7-B645-C9C5AAD2A6AB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1CCDEA-B739-4FB2-97BF-E723F4BDD581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4EB806-365D-4F9A-980D-71907CE128D6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59B67FE-D3B9-4F48-999D-B457FE2C2AE5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8D1CD22-649C-45CC-B832-58DDF3D31FD5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C5D671A-68DE-4045-8ED1-F9907525633A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31574D2-1C5A-4A2A-ADAB-1BF4E0E92FFB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0764E06-7B2A-4C2C-A5B8-53908275FB5B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4075E5A-726B-48F4-BEAE-9EE0C2196A15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BDDA0AD-E9E5-4E88-9265-FD11FEA19D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92B20-0E53-4250-8138-D75C79586EFA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6FD025-7CAA-4E97-B058-8522E6008A2A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AF71563-5C8A-4509-9CAD-91FD6CE90012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7417774-FC22-495A-A56A-C1B504F31762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C714C70-CD11-4433-AC6A-06E285A67504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08224E9-6C20-4B72-8EDC-2312C26B32AB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BA5D88E-C009-4543-B972-A73807672034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2813B5E-5F5E-4672-A2D6-62CD56F6B009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A98680-368F-409D-9EE5-CF196FDE2761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047EB28-4B76-414B-8D64-8FA98A5552FD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4CBC6F-C73C-4D76-BB5C-60452E08B5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0ED54-3551-4056-BFA2-0DBCE48FA95D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851E9A-C402-4D93-8FCA-6E97BFDB76F7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1D2A71-EF5D-4693-B693-1E8A22F80472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0DB1E9A-9CA3-4A92-BBE5-6D9984F35D23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7995AD1-4A42-403F-9C42-59726E1FB359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3C564B6-2E6F-47CB-B4FA-7AAE10D06193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E05F13-B703-48FB-9180-E9F91FB13606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431568F-6CFF-4F73-890F-2A776E8E6A48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83A2B9-C9BF-4137-9142-643C32E0B8B3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93D04E-DEBA-4EB9-840F-DF53E4E84FF0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6995A4-E404-4120-8317-498EF5FD18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E05BC-2EA8-4256-A980-A62030B81082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11AC12-80B3-4805-91F1-5848140DC762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F0C189-3FC0-40A9-9AF7-819CF79CC4FC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BE8307-4F80-46D2-9E91-4F5AA85EDACF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FD5445-7559-45FE-B157-2DEB0B7A7AB5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7AC438-5F94-4375-B8F0-4499A49326C2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108016-A850-41EB-9E89-ED363725ACFF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00CB8A-A632-4A7E-8808-7F73FAE8F68D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863FBB-E30C-4AEA-BEB7-E1B1F5E8FB15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6AAEB9-1D8E-4B95-A5E1-89DABED07526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C00C11-BBD3-4FEE-AF23-5ADB4094D6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4F0F5-452D-433F-ABB8-BB538182C690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73A2D20-FABB-4A0E-A7D9-0EA1D128A230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DEDD52-7C09-4AF2-9191-514F34F8AFCA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C35357F-1ABB-4148-A076-0D8EFF17922F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3975ABC-AAC6-43BC-9C7C-361D385592E7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43A5E38-33C2-46B0-8871-29DB7F203B12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EB30F5B-881B-499B-BF72-882368BF4BD9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58478C7-5EA4-44B1-B10B-D1232E23D459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4FF8E9-377A-4195-976C-6D8052DD9A64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E0CDC29-7621-467B-8254-BBEE033EAB4E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DA6BC4-5F74-4B5E-8988-3ADF9B70DD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6B028-D1CF-4981-8880-C3FD47F837AD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19EC3C-65BA-4AE5-8AFE-EC12D88BB7DB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64EEA63-E0F5-4BE1-AD43-DB4761DAD32A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BB4FC4E-760D-43A8-A02B-1644F95D676A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7EBE5CD-1365-422F-BCAC-07A1AADF92C2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8B7287E-8139-4182-8342-0C1113FEB597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3503FA8-80F4-45CD-88A9-99562A1D875D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481D94B-B761-4608-83C8-229A956507F3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5543284-7D2B-40D5-B0F1-A881D8B02AA2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532F3C2-4E2E-4BA9-BF2B-3C44B3303018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1801653-5C1C-46BE-875B-1A68940B5A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075AE-A8A9-4D24-A165-6806D8A8E78D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B6DECED-CAFA-4FAE-8A76-1C2FDCC6AD97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E722BD-F536-4CF8-8B1C-C85B9686A9D3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5A1D92-7AC4-4E4C-93D0-A83D5AF12C26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6236EB-DDCA-42AF-9394-1FF6C3209A6A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55956E-C5CE-4329-B03F-39C2BC708641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8F6922-89D5-43E4-916C-BBF108992F67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77B751-726F-404B-84B5-9E452B18A12A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6D09E3-CFD9-403D-99C9-8B2003F2310D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3F071C-768B-47A8-AB8F-4289E2FE198F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210456-56A5-4170-9A90-7C85B164F3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F2A1A-2038-4419-9E37-69F059C65EC5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398214-B7F4-4348-8361-5148C7BE623E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55FA31-1D3E-456F-A9BF-3B7007C63ECE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4DF4F2-8FAD-43F3-9DAE-A6EDF9A476D0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79102F-AFB8-46F1-B94E-B08125AD0523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F9E73F-5A16-44EF-90C5-CE688AAB08B6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97CF2A1-FA16-4F8C-AAD1-6AEC8D492AB2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CB593EB-2CE6-4194-940F-B302F8E8EDC7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F497759-8D76-45BE-A634-FE417B337001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E2189DD-A0DD-4795-BF8F-AD0101E1B513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B307965-C777-4D0E-A1DE-3D81BE2755A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D2EF4-3B38-4BDA-A5D1-6B0C38AB7923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A169083-EF4A-4168-8BBC-F22B06F2E2EC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915CCA9-4951-43D8-9D52-27A57EB88ECA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A87B75E-51FA-4551-B811-64641564490E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1144632-AD88-48B4-8FCF-45A80919669E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58B0799-5606-4CB9-A963-93DBE98EC6EC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EC69EC9-ED49-415E-849E-851E9BBC77DD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DEFDA96-C3C5-4E86-BEB4-C7A92109F964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9A63D2-2C2B-4110-990A-A5EEF41E21CD}" type="slidenum">
              <a:t>&lt;#&gt;</a:t>
            </a:fld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6A7BE7-5C19-430A-AA52-F2CF6BBDF0DF}" type="slidenum">
              <a:t>&lt;#&gt;</a:t>
            </a:fld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B28FAAE-4FCF-4A33-BAB3-55B6E36E9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4A8D-7977-4DB9-8FB1-4C8B097945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336D2-3878-4EA4-9113-35EF514520A4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5BE6F8C-C182-49F6-8D11-59BBE4DAD4E1}" type="slidenum">
              <a:t>&lt;#&gt;</a:t>
            </a:fld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C7EB395-23B5-4685-BFEE-FCB08C302C4A}" type="slidenum">
              <a:t>&lt;#&gt;</a:t>
            </a:fld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2B72F7B-802A-4319-A113-A598B85344E7}" type="slidenum">
              <a:t>&lt;#&gt;</a:t>
            </a:fld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FC1F734-4A5C-49BC-8971-D40EC387C8B1}" type="slidenum">
              <a:t>&lt;#&gt;</a:t>
            </a:fld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762674-E332-4797-8537-AE00E9CFAA10}" type="slidenum">
              <a:t>&lt;#&gt;</a:t>
            </a:fld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BA732C8-9582-40B3-A482-CD2C062C34DD}" type="slidenum">
              <a:t>&lt;#&gt;</a:t>
            </a:fld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FB7876-52AF-4C9D-B930-2852AA858791}" type="slidenum">
              <a:t>&lt;#&gt;</a:t>
            </a:fld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C18A0F-EED7-4ECF-8C0B-BADEB99BBFFA}" type="slidenum">
              <a:t>&lt;#&gt;</a:t>
            </a:fld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E413E9-C45D-4CA5-ABB5-905D5892C3E2}" type="slidenum">
              <a:t>&lt;#&gt;</a:t>
            </a:fld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E6D734-7D43-4581-AA35-B7ECE2938B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7300D-CE3E-427C-B383-5C5F106DB44F}" type="slidenum">
              <a:t>&lt;#&gt;</a:t>
            </a:fld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9149AE-6247-4387-80FC-BFBA0D4A5C7D}" type="slidenum">
              <a:t>&lt;#&gt;</a:t>
            </a:fld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569774-E2F2-4020-BE3C-74F2E8ABCCD1}" type="slidenum">
              <a:t>&lt;#&gt;</a:t>
            </a:fld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BB10D7-C79C-44C0-BB8F-7C4C5988A657}" type="slidenum">
              <a:t>&lt;#&gt;</a:t>
            </a:fld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223EF4-A1EC-4011-A4BA-947840ED8929}" type="slidenum">
              <a:t>&lt;#&gt;</a:t>
            </a:fld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8FA698-6831-4B3F-837F-BC059924B2CE}" type="slidenum">
              <a:t>&lt;#&gt;</a:t>
            </a:fld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EB5713-5032-4DF9-B8DF-D7AB34A342CD}" type="slidenum">
              <a:t>&lt;#&gt;</a:t>
            </a:fld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3EE7AE-4092-4C66-8BD3-922420A62148}" type="slidenum">
              <a:t>&lt;#&gt;</a:t>
            </a:fld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0CA5FB-4F10-4D59-AC27-003643C5BB46}" type="slidenum">
              <a:t>&lt;#&gt;</a:t>
            </a:fld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B2DFBE-88F0-4A0F-8F9F-8FF3F5DB902E}" type="slidenum">
              <a:t>&lt;#&gt;</a:t>
            </a:fld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070D51-6581-4B42-BA78-6888A4A389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8881A-782E-47DD-B6C2-55A9C1072E7E}" type="slidenum">
              <a:t>&lt;#&gt;</a:t>
            </a:fld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218800-F30D-4C4F-AF78-76DF2D41417C}" type="slidenum">
              <a:t>&lt;#&gt;</a:t>
            </a:fld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CDC8DC8-72B6-4E60-B7A9-5B2F21607E3E}" type="slidenum">
              <a:t>&lt;#&gt;</a:t>
            </a:fld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0551154-9DC8-47D0-B304-9647C66D8045}" type="slidenum">
              <a:t>&lt;#&gt;</a:t>
            </a:fld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457E133-EBA6-47D0-BD4F-B33E3E862098}" type="slidenum">
              <a:t>&lt;#&gt;</a:t>
            </a:fld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10D8655-6B9A-4C72-AA1D-28FB5B4DB62F}" type="slidenum">
              <a:t>&lt;#&gt;</a:t>
            </a:fld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32CB1F3-B76C-4E83-ACE9-70F2FD16954E}" type="slidenum">
              <a:t>&lt;#&gt;</a:t>
            </a:fld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20D34A3-4567-4A45-9738-F2044B397B33}" type="slidenum">
              <a:t>&lt;#&gt;</a:t>
            </a:fld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BE9D4DE-A79E-4890-B476-C8DA3B9BA177}" type="slidenum">
              <a:t>&lt;#&gt;</a:t>
            </a:fld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EF707AF-6370-40BB-9B3B-EACDF315A970}" type="slidenum">
              <a:t>&lt;#&gt;</a:t>
            </a:fld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F8F6855-3D9E-47B2-A96F-CB0C4A84EE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B510-CF19-415B-9F31-D3494F99FDBD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94BE3A-C49A-41A1-98D3-2B9341D2A7AA}" type="slidenum">
              <a:t>&lt;#&gt;</a:t>
            </a:fld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FE95590-C39F-4B0F-81F4-9FE99457C798}" type="slidenum">
              <a:t>&lt;#&gt;</a:t>
            </a:fld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1DA4B63-FC7F-43F1-AA01-D6069B7ACEA1}" type="slidenum">
              <a:t>&lt;#&gt;</a:t>
            </a:fld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0080BFD-1226-45B1-B23C-108C17FD21AD}" type="slidenum">
              <a:t>&lt;#&gt;</a:t>
            </a:fld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25AACF9-DE7F-49B2-97EE-7AE66F4F9153}" type="slidenum">
              <a:t>&lt;#&gt;</a:t>
            </a:fld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BBB3BBB-2BD1-47C7-AEA1-EE4935D8AE82}" type="slidenum">
              <a:t>&lt;#&gt;</a:t>
            </a:fld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92E10CC-B201-4AF7-8C57-BC22CE512808}" type="slidenum">
              <a:t>&lt;#&gt;</a:t>
            </a:fld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25DFEAB-AE95-42F2-B163-1D150CF8E1BF}" type="slidenum">
              <a:t>&lt;#&gt;</a:t>
            </a:fld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D8F0724-7BA3-44DC-A758-1C33CA0588C2}" type="slidenum">
              <a:t>&lt;#&gt;</a:t>
            </a:fld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2CC4AAE-99C3-4357-B2FE-7FAD9B468F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5204-B092-46B1-8298-EEEF276C0DC5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83ABDBB-808D-4658-8FFF-22385439DDC8}" type="slidenum">
              <a:t>&lt;#&gt;</a:t>
            </a:fld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D1560A-97FA-48B9-8A12-D5B29507040B}" type="slidenum">
              <a:t>&lt;#&gt;</a:t>
            </a:fld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66B378B-541B-436F-B38B-D08EE878D0F7}" type="slidenum">
              <a:t>&lt;#&gt;</a:t>
            </a:fld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5321F50-4F8E-4BAF-A3B7-187475D3912F}" type="slidenum">
              <a:t>&lt;#&gt;</a:t>
            </a:fld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6626FDA-034B-4DAE-A089-19AB66E0D4FB}" type="slidenum">
              <a:t>&lt;#&gt;</a:t>
            </a:fld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B2604D-438E-4D3D-8A7D-93B5AD87E5AC}" type="slidenum">
              <a:t>&lt;#&gt;</a:t>
            </a:fld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7F2781-408D-40BA-AEC4-5169CC7114F8}" type="slidenum">
              <a:t>&lt;#&gt;</a:t>
            </a:fld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1AA334-A6F9-47A2-A277-340738D821D7}" type="slidenum">
              <a:t>&lt;#&gt;</a:t>
            </a:fld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6BCFB9-0444-4584-8424-B44ED2BFE74B}" type="slidenum">
              <a:t>&lt;#&gt;</a:t>
            </a:fld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5BD50F-3204-41B1-85EB-95E15D1B04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D63C-D419-4A53-A86B-D747D016678D}" type="slidenum">
              <a:t>&lt;#&gt;</a:t>
            </a:fld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1B042F-7B85-421B-B5CE-7D63D40E2B00}" type="slidenum">
              <a:t>&lt;#&gt;</a:t>
            </a:fld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61077F-B043-45C3-B762-861F6FFC5370}" type="slidenum">
              <a:t>&lt;#&gt;</a:t>
            </a:fld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695035-DBDF-4CA3-BC57-A4A2EE28EC14}" type="slidenum">
              <a:t>&lt;#&gt;</a:t>
            </a:fld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4146C7-D441-4817-889B-D862D40E59E3}" type="slidenum">
              <a:t>&lt;#&gt;</a:t>
            </a:fld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9C4171-2C11-4A3C-B37A-6241C9D69921}" type="slidenum">
              <a:t>&lt;#&gt;</a:t>
            </a:fld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069E2F-7D53-4774-A4A5-62203EB1D769}" type="slidenum">
              <a:t>&lt;#&gt;</a:t>
            </a:fld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727E2C-3DBA-4D40-A6B9-9D0F88ED9AA1}" type="slidenum">
              <a:t>&lt;#&gt;</a:t>
            </a:fld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1360AB5-11DC-455D-996D-A27B1D9DBAE3}" type="slidenum">
              <a:t>&lt;#&gt;</a:t>
            </a:fld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D5BFB30-91F0-4787-8915-4DB1C02BE7A5}" type="slidenum">
              <a:t>&lt;#&gt;</a:t>
            </a:fld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FD6728F-4BEF-4B47-9DD0-797CF5F670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C3B3-F738-4514-8648-64E1A282CE81}" type="slidenum">
              <a:t>&lt;#&gt;</a:t>
            </a:fld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F550982-A58A-4840-8130-4A8B71703925}" type="slidenum">
              <a:t>&lt;#&gt;</a:t>
            </a:fld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B74D87C-8D84-41F5-8EAA-08EEEA881F92}" type="slidenum">
              <a:t>&lt;#&gt;</a:t>
            </a:fld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4300D9A-4EAE-49BE-9CA7-BF48AD7F7B15}" type="slidenum">
              <a:t>&lt;#&gt;</a:t>
            </a:fld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6030917-81A6-4D5D-B6CA-2699D7928228}" type="slidenum">
              <a:t>&lt;#&gt;</a:t>
            </a:fld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BB35583-6F21-4D1F-B881-C8E43CDB62CF}" type="slidenum">
              <a:t>&lt;#&gt;</a:t>
            </a:fld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A8E1A04-89A2-4ABE-9B9A-413F4C1A290B}" type="slidenum">
              <a:t>&lt;#&gt;</a:t>
            </a:fld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0AD9431-FA94-43AD-A921-5A6FD8F1F2D4}" type="slidenum">
              <a:t>&lt;#&gt;</a:t>
            </a:fld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5E531A7-465E-42B5-BC0F-EDBE8F0F5922}" type="slidenum">
              <a:t>&lt;#&gt;</a:t>
            </a:fld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55186BD-6408-4E92-B46A-8E2F1863F950}" type="slidenum">
              <a:t>&lt;#&gt;</a:t>
            </a:fld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65E180A-E046-4748-8710-2CA07752AC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521B-EF61-44ED-B24F-3025961750F3}" type="slidenum">
              <a:t>&lt;#&gt;</a:t>
            </a:fld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19BEB2-05B0-4262-A32B-0CE6C54A1B32}" type="slidenum">
              <a:t>&lt;#&gt;</a:t>
            </a:fld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C303968-A57F-4BF5-ABED-C281386651A0}" type="slidenum">
              <a:t>&lt;#&gt;</a:t>
            </a:fld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439EBD9-FCF0-407A-AEAB-F0FADB0045F4}" type="slidenum">
              <a:t>&lt;#&gt;</a:t>
            </a:fld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17EF1B3-A37A-4FE3-B5FD-EBC4E20F4073}" type="slidenum">
              <a:t>&lt;#&gt;</a:t>
            </a:fld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0D6A3D4-4001-4884-A459-7FFC21F77879}" type="slidenum">
              <a:t>&lt;#&gt;</a:t>
            </a:fld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1D0387-908B-4EA4-97BE-8A8259F1F10E}" type="slidenum">
              <a:t>&lt;#&gt;</a:t>
            </a:fld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68AE933-E7F2-4097-80E6-881FE000F5EF}" type="slidenum">
              <a:t>&lt;#&gt;</a:t>
            </a:fld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A410DC4-563F-4063-97FC-E34A970F0F5C}" type="slidenum">
              <a:t>&lt;#&gt;</a:t>
            </a:fld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C7D3E14-CCC2-4967-8B33-ACE318B4D318}" type="slidenum">
              <a:t>&lt;#&gt;</a:t>
            </a:fld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6C508C1-212F-4545-90DB-57D9F80ED2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BB06-4C2A-4408-8158-FEB31E333303}" type="slidenum">
              <a:t>&lt;#&gt;</a:t>
            </a:fld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B48ADC3-2747-49A3-91BE-B44FA8E3DD09}" type="slidenum">
              <a:t>&lt;#&gt;</a:t>
            </a:fld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F28D9A-B376-433F-8E0A-1C13BA3F693C}" type="slidenum">
              <a:t>&lt;#&gt;</a:t>
            </a:fld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6025ED-87E2-441E-B28B-0F15C34C9E51}" type="slidenum">
              <a:t>&lt;#&gt;</a:t>
            </a:fld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E1EC88-BE0F-4B3E-9A9E-D82ED7F471B9}" type="slidenum">
              <a:t>&lt;#&gt;</a:t>
            </a:fld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3EFA67-F4D6-4D34-B5D4-90CA8CA78CFD}" type="slidenum">
              <a:t>&lt;#&gt;</a:t>
            </a:fld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BD0894-E333-476A-9459-0D10F4A82B35}" type="slidenum">
              <a:t>&lt;#&gt;</a:t>
            </a:fld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AC4F73-EAA6-4B07-819D-BD56DAD49324}" type="slidenum">
              <a:t>&lt;#&gt;</a:t>
            </a:fld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EF66D0-0D01-471E-B862-878F721D29BF}" type="slidenum">
              <a:t>&lt;#&gt;</a:t>
            </a:fld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A51237-B6B9-467E-8387-D06102BB6271}" type="slidenum">
              <a:t>&lt;#&gt;</a:t>
            </a:fld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174F3C-565F-45DC-9102-A14D83A4F6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D04C-CF1F-4950-82D3-58F4EC897DC7}" type="slidenum">
              <a:t>&lt;#&gt;</a:t>
            </a:fld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7D2BB5-0178-4B96-A9A2-85E0D883EE18}" type="slidenum">
              <a:t>&lt;#&gt;</a:t>
            </a:fld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19188C-0499-4DA5-A5C6-61BA14CC51E0}" type="slidenum">
              <a:t>&lt;#&gt;</a:t>
            </a:fld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F7C1FE-7106-4ADE-AF71-E81111664BE7}" type="slidenum">
              <a:t>&lt;#&gt;</a:t>
            </a:fld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8B6446D-E137-4696-9C7C-06930FB8B3CA}" type="slidenum">
              <a:t>&lt;#&gt;</a:t>
            </a:fld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EBCE09E-0685-44CB-893D-367EC92298D8}" type="slidenum">
              <a:t>&lt;#&gt;</a:t>
            </a:fld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CE62C74-3AB8-490B-8E6F-1B755F7D43B9}" type="slidenum">
              <a:t>&lt;#&gt;</a:t>
            </a:fld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91D955A-1B75-4F99-B5F0-40F46A593F2C}" type="slidenum">
              <a:t>&lt;#&gt;</a:t>
            </a:fld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F6F9C04-EE65-4CE0-87F9-51C9B1902F0A}" type="slidenum">
              <a:t>&lt;#&gt;</a:t>
            </a:fld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3695E06-7AC5-46BC-BFC7-1B4848BF1148}" type="slidenum">
              <a:t>&lt;#&gt;</a:t>
            </a:fld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9389356-BB7D-4BE5-8EE2-92D42A6F0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49F3-162B-4113-852B-F169441B11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960F-5D1C-4799-9DE5-F84FADBDD958}" type="slidenum">
              <a:t>&lt;#&gt;</a:t>
            </a:fld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220B151-8F27-4D59-8174-581732B76832}" type="slidenum">
              <a:t>&lt;#&gt;</a:t>
            </a:fld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4F42E2C-DB43-4ED4-8429-BDED63357ADC}" type="slidenum">
              <a:t>&lt;#&gt;</a:t>
            </a:fld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24DF411-0089-4D55-9CA4-9516096CC412}" type="slidenum">
              <a:t>&lt;#&gt;</a:t>
            </a:fld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0BEB322-9B87-4B9B-9DAE-98ED80E75DBC}" type="slidenum">
              <a:t>&lt;#&gt;</a:t>
            </a:fld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E66BB95-9769-4FF3-9EDB-B5067D85BA9B}" type="slidenum">
              <a:t>&lt;#&gt;</a:t>
            </a:fld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22C9C99-09B4-4D7B-B83B-50007AD55DC7}" type="slidenum">
              <a:t>&lt;#&gt;</a:t>
            </a:fld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835F600-F8AD-401E-AA12-5CAA0942435E}" type="slidenum">
              <a:t>&lt;#&gt;</a:t>
            </a:fld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A92D0E-2EDC-4B96-9EA9-C32D716629E7}" type="slidenum">
              <a:t>&lt;#&gt;</a:t>
            </a:fld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E86DF89-3040-43C3-A6A6-303652D196A4}" type="slidenum">
              <a:t>&lt;#&gt;</a:t>
            </a:fld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DDD3FD9-6406-4ED9-A356-7502DB997F7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329A-21CE-485B-9409-8E386743CB44}" type="slidenum">
              <a:t>&lt;#&gt;</a:t>
            </a:fld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A9DCE68-890D-4774-8D5A-E3AB48401CBA}" type="slidenum">
              <a:t>&lt;#&gt;</a:t>
            </a:fld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6FD66A5-A12C-42EA-A747-C96491220BF7}" type="slidenum">
              <a:t>&lt;#&gt;</a:t>
            </a:fld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A759867-C2BC-414D-A285-5D90C5AC9528}" type="slidenum">
              <a:t>&lt;#&gt;</a:t>
            </a:fld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52E2CB9-93A6-4EE0-AE61-80DFC4FCD3CB}" type="slidenum">
              <a:t>&lt;#&gt;</a:t>
            </a:fld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1C4DA8D-61CD-4839-8851-31242CB4094D}" type="slidenum">
              <a:t>&lt;#&gt;</a:t>
            </a:fld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EF78141-8D88-46C5-9691-83F487878E5A}" type="slidenum">
              <a:t>&lt;#&gt;</a:t>
            </a:fld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578A55B-4A1B-4271-94FD-9BCD54A8EECA}" type="slidenum">
              <a:t>&lt;#&gt;</a:t>
            </a:fld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2F9FCB-C20B-4721-BB08-C657A996ADC7}" type="slidenum">
              <a:t>&lt;#&gt;</a:t>
            </a:fld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7C8814-4CF4-4155-BAD3-F9E430FF4499}" type="slidenum">
              <a:t>&lt;#&gt;</a:t>
            </a:fld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E7EF35-212E-4CE0-A55D-5F3D36E229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A011-4963-4A95-96B9-686DD5A7B110}" type="slidenum">
              <a:t>&lt;#&gt;</a:t>
            </a:fld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3A57FF-65CD-48DA-A01F-A19FC3A80C80}" type="slidenum">
              <a:t>&lt;#&gt;</a:t>
            </a:fld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9781E3-1D2F-4E57-97B0-90D2ED540DBC}" type="slidenum">
              <a:t>&lt;#&gt;</a:t>
            </a:fld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CEAA47-B7B9-4FF5-A23A-FCA61FA0270A}" type="slidenum">
              <a:t>&lt;#&gt;</a:t>
            </a:fld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A38F4D-651C-4EC5-9F9A-63B9E4828AA7}" type="slidenum">
              <a:t>&lt;#&gt;</a:t>
            </a:fld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9F7558-BA2A-4975-A810-25122A8F701C}" type="slidenum">
              <a:t>&lt;#&gt;</a:t>
            </a:fld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8EC25B-C7D1-4C4F-B1DD-821F12B989FF}" type="slidenum">
              <a:t>&lt;#&gt;</a:t>
            </a:fld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756CB3-829A-4AAA-8ACE-DF234DE52E3C}" type="slidenum">
              <a:t>&lt;#&gt;</a:t>
            </a:fld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CDDA11-FF5B-46A3-88BB-8C9896F06CA1}" type="slidenum">
              <a:t>&lt;#&gt;</a:t>
            </a:fld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94FEEA-7FB6-4E33-B987-C51FB28AAE7C}" type="slidenum">
              <a:t>&lt;#&gt;</a:t>
            </a:fld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0270E9-47C7-438B-A5E9-0FC7F6AB73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6D56E-48C2-4AB1-BF0E-797E1713D307}" type="slidenum">
              <a:t>&lt;#&gt;</a:t>
            </a:fld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65C660D-AE4A-4063-9956-2C20731DF6B8}" type="slidenum">
              <a:t>&lt;#&gt;</a:t>
            </a:fld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41038B1-E782-4230-B014-9F7E57727FC8}" type="slidenum">
              <a:t>&lt;#&gt;</a:t>
            </a:fld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45D2A5E-3D7D-4AD7-BBD5-7CFA522CA7CA}" type="slidenum">
              <a:t>&lt;#&gt;</a:t>
            </a:fld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D3FC415-A049-4A36-8402-C8462AEED9F8}" type="slidenum">
              <a:t>&lt;#&gt;</a:t>
            </a:fld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C7DF172-F2E2-42BC-86B6-8ACB0D4A6A6D}" type="slidenum">
              <a:t>&lt;#&gt;</a:t>
            </a:fld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B4A3273-07CE-462D-A7D8-4D086880C047}" type="slidenum">
              <a:t>&lt;#&gt;</a:t>
            </a:fld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FC0CFF0-AF1D-4948-9284-AB782D412F25}" type="slidenum">
              <a:t>&lt;#&gt;</a:t>
            </a:fld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72651F2-187B-41FA-B5F6-212DFD1E0658}" type="slidenum">
              <a:t>&lt;#&gt;</a:t>
            </a:fld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47BA49F-8B44-43FD-9801-ED0024C60C15}" type="slidenum">
              <a:t>&lt;#&gt;</a:t>
            </a:fld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F44B157-7D81-49FC-A0CA-6C95DBCF64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6C3B-74C9-4072-8C96-BD472C6229C4}" type="slidenum">
              <a:t>&lt;#&gt;</a:t>
            </a:fld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372B303-CCBB-4FB3-846E-4DEDD692C52D}" type="slidenum">
              <a:t>&lt;#&gt;</a:t>
            </a:fld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9F3A89C-5C29-4E24-9A4A-8C7247015BC4}" type="slidenum">
              <a:t>&lt;#&gt;</a:t>
            </a:fld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F72D335-F6B0-47F4-A40E-4EFEC610B73E}" type="slidenum">
              <a:t>&lt;#&gt;</a:t>
            </a:fld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07B2E92-8289-4BFD-897C-DEE6076DA58D}" type="slidenum">
              <a:t>&lt;#&gt;</a:t>
            </a:fld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FC57BB4-2498-4BD2-8320-55B0A45001B6}" type="slidenum">
              <a:t>&lt;#&gt;</a:t>
            </a:fld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DDA9C1D-C326-44E5-996F-4B82A61750ED}" type="slidenum">
              <a:t>&lt;#&gt;</a:t>
            </a:fld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F56D02A-409F-4642-9A80-BC4930299853}" type="slidenum">
              <a:t>&lt;#&gt;</a:t>
            </a:fld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FB1FDBB-FDAA-4683-AE1E-17F916711E6B}" type="slidenum">
              <a:t>&lt;#&gt;</a:t>
            </a:fld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764E86-15FA-4FBD-A547-325A1D3B1F75}" type="slidenum">
              <a:t>&lt;#&gt;</a:t>
            </a:fld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181DC12-2376-4D03-9571-517061F66A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CC077-4AF8-445C-9112-5DF0AB1F7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71B3A6B-A299-453B-BC02-1A06967D34BB}" type="slidenum">
              <a:t>&lt;#&gt;</a:t>
            </a:fld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C6AD874-97B6-407D-9C65-22FC997A4A2D}" type="slidenum">
              <a:t>&lt;#&gt;</a:t>
            </a:fld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624FE37-72BC-47AD-8D21-693470E9CD19}" type="slidenum">
              <a:t>&lt;#&gt;</a:t>
            </a:fld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68D684-8F63-49FF-9E49-A5B7A560D263}" type="slidenum">
              <a:t>&lt;#&gt;</a:t>
            </a:fld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CA9AD3-7F83-436D-BE1F-698385D34B04}" type="slidenum">
              <a:t>&lt;#&gt;</a:t>
            </a:fld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95E651-A1E1-40AC-BA4D-D007945C5725}" type="slidenum">
              <a:t>&lt;#&gt;</a:t>
            </a:fld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73AC04-09E8-49D0-98B9-9F297A148AAB}" type="slidenum">
              <a:t>&lt;#&gt;</a:t>
            </a:fld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9FA0BB-2FBF-44EE-90AB-012276E82B41}" type="slidenum">
              <a:t>&lt;#&gt;</a:t>
            </a:fld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CCAB93-9725-40DC-8C1E-3F7D9D793B40}" type="slidenum">
              <a:t>&lt;#&gt;</a:t>
            </a:fld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D5F06E-ED7E-4B09-8E9C-454D98BB615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1A365-80FF-4383-B18D-D2CBF97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1820C5-F1A1-4B13-8A92-342D27ADE1D9}" type="slidenum">
              <a:t>&lt;#&gt;</a:t>
            </a:fld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A22458-3226-43A2-8A98-88402E17A8FC}" type="slidenum">
              <a:t>&lt;#&gt;</a:t>
            </a:fld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444DF0-BBB8-401C-A101-F55C4A6AAD61}" type="slidenum">
              <a:t>&lt;#&gt;</a:t>
            </a:fld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AD7956-4F7A-4868-A674-9C101B571390}" type="slidenum">
              <a:t>&lt;#&gt;</a:t>
            </a:fld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7A3D3C-693E-416D-9E28-F0190B9C8E31}" type="slidenum">
              <a:t>&lt;#&gt;</a:t>
            </a:fld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E104705-6633-4558-B66A-58ECBB971370}" type="slidenum">
              <a:t>&lt;#&gt;</a:t>
            </a:fld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A11C162-DDAA-4FE0-BF2F-54093913E66E}" type="slidenum">
              <a:t>&lt;#&gt;</a:t>
            </a:fld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A17735D-C215-4B36-A414-2B8AE3EC0A73}" type="slidenum">
              <a:t>&lt;#&gt;</a:t>
            </a:fld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62FE376-5D00-49CF-BF7E-18E380F3608A}" type="slidenum">
              <a:t>&lt;#&gt;</a:t>
            </a:fld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35BD7AB-B864-42C2-BE26-FCECCEF6F5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878EB-B3D0-411D-9A41-8B513E0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150FF81-D153-4713-9AE9-7F89844935C4}" type="slidenum">
              <a:t>&lt;#&gt;</a:t>
            </a:fld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47BA302-3C4D-4A82-ACB2-0F902F23E177}" type="slidenum">
              <a:t>&lt;#&gt;</a:t>
            </a:fld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CEFFD0F-619A-4358-A338-7A0D1545F09A}" type="slidenum">
              <a:t>&lt;#&gt;</a:t>
            </a:fld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194F1D5-3AA3-45BC-8704-CE1A35CD170F}" type="slidenum">
              <a:t>&lt;#&gt;</a:t>
            </a:fld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E4018E9-2CAA-41FF-B12C-6DE47A184F1A}" type="slidenum">
              <a:t>&lt;#&gt;</a:t>
            </a:fld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4C0004A-93C1-4FEF-BFF7-9391904A18A7}" type="slidenum">
              <a:t>&lt;#&gt;</a:t>
            </a:fld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55E9EA3-1C2F-42E2-80A1-DB2F6FE1EAB0}" type="slidenum">
              <a:t>&lt;#&gt;</a:t>
            </a:fld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ABA3BD0-F87F-4ED1-8BE0-573CDF54FEB6}" type="slidenum">
              <a:t>&lt;#&gt;</a:t>
            </a:fld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45F51BC-866A-48CA-8F2B-74708B51F56A}" type="slidenum">
              <a:t>&lt;#&gt;</a:t>
            </a:fld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AEF3E48-1C05-4A0E-AA52-D2B0BB6F8E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F44AF-B3FC-4CE6-B9B8-B0B7B53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575A283-7838-4B2A-B11A-C4BB3A09A463}" type="slidenum">
              <a:t>&lt;#&gt;</a:t>
            </a:fld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E32FA6C-F3D2-43F3-B805-737B958AEB00}" type="slidenum">
              <a:t>&lt;#&gt;</a:t>
            </a:fld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245B199-6A9D-4EB8-B40C-CA5C25E2068C}" type="slidenum">
              <a:t>&lt;#&gt;</a:t>
            </a:fld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10E8CD9-2FCE-4075-8DE8-8F9178D021AF}" type="slidenum">
              <a:t>&lt;#&gt;</a:t>
            </a:fld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63127AB-E930-4E27-9615-8E488D005077}" type="slidenum">
              <a:t>&lt;#&gt;</a:t>
            </a:fld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B84AD1A-B152-4CFD-A74F-B94956E1BB46}" type="slidenum">
              <a:t>&lt;#&gt;</a:t>
            </a:fld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D1AB771-153C-49D6-8011-390740AA1DBF}" type="slidenum">
              <a:t>&lt;#&gt;</a:t>
            </a:fld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D2802F1-7EF0-44B2-ADA8-2F5D78EFD970}" type="slidenum">
              <a:t>&lt;#&gt;</a:t>
            </a:fld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C6D50E5-C77B-411F-85CB-41A47021DE3A}" type="slidenum">
              <a:t>&lt;#&gt;</a:t>
            </a:fld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C6E37E-083A-4AF1-94E1-8B699668E1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A659A-85EB-4708-B09E-85D6CE68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D6F224-9C2D-49A3-86BA-446215D91AD5}" type="slidenum">
              <a:t>&lt;#&gt;</a:t>
            </a:fld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60A698-8930-41E6-BDF5-3E923E2A27F3}" type="slidenum">
              <a:t>&lt;#&gt;</a:t>
            </a:fld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58C16EE-A82F-4B0D-B427-48DF39447768}" type="slidenum">
              <a:t>&lt;#&gt;</a:t>
            </a:fld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3151A7-55E9-4520-96B9-7F569ABC7B0E}" type="slidenum">
              <a:t>&lt;#&gt;</a:t>
            </a:fld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270AC7-2F32-4C4A-AA35-1FE26F2B36C8}" type="slidenum">
              <a:t>&lt;#&gt;</a:t>
            </a:fld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D8FCD7-FC87-46DC-984A-F6246114E5A4}" type="slidenum">
              <a:t>&lt;#&gt;</a:t>
            </a:fld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686DCD-D790-49A0-9936-AD64EDFDA104}" type="slidenum">
              <a:t>&lt;#&gt;</a:t>
            </a:fld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B0B4EC-B39D-442F-8F0F-5F3D74AF08E8}" type="slidenum">
              <a:t>&lt;#&gt;</a:t>
            </a:fld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2C04B9-D72C-43BD-9F16-0FFEA47A0F5A}" type="slidenum">
              <a:t>&lt;#&gt;</a:t>
            </a:fld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518291-7C75-46D9-BC81-CC4B17B973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333D-26A7-4815-8B7A-49CCE43A821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9130D-4B8F-4C0E-B153-1D496F0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30FD03-5263-45A8-82A8-1BA22C8B6B1E}" type="slidenum">
              <a:t>&lt;#&gt;</a:t>
            </a:fld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1A2FD9-E82D-47C5-85D0-6BEBEDA501F5}" type="slidenum">
              <a:t>&lt;#&gt;</a:t>
            </a:fld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53838EE-0806-4D61-9D95-5DF078021A30}" type="slidenum">
              <a:t>&lt;#&gt;</a:t>
            </a:fld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288379A-39BB-47FD-8208-83D0829E43E6}" type="slidenum">
              <a:t>&lt;#&gt;</a:t>
            </a:fld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6EB5207-F305-4434-9359-19E7F8870697}" type="slidenum">
              <a:t>&lt;#&gt;</a:t>
            </a:fld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9A99576-019D-4308-83B3-CBE7C12DCEB4}" type="slidenum">
              <a:t>&lt;#&gt;</a:t>
            </a:fld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F27724E-E25B-4E1B-B070-1AB23379034D}" type="slidenum">
              <a:t>&lt;#&gt;</a:t>
            </a:fld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B31E06C-45D2-4DE4-AED4-BAF64F3BD0B0}" type="slidenum">
              <a:t>&lt;#&gt;</a:t>
            </a:fld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BDFC251-F726-461C-9286-0F2A86592918}" type="slidenum">
              <a:t>&lt;#&gt;</a:t>
            </a:fld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4FA9009-A0B2-4CE9-A512-276FC3C8479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F1CB7-ADD7-4417-813B-8E5F5399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67B20E6-0F57-47AF-9EFE-380A051AB03E}" type="slidenum">
              <a:t>&lt;#&gt;</a:t>
            </a:fld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A9FF805-2FF5-4C0D-8222-57C22C04193D}" type="slidenum">
              <a:t>&lt;#&gt;</a:t>
            </a:fld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A45B07A-DE46-4D26-8D5A-E41DA31EF918}" type="slidenum">
              <a:t>&lt;#&gt;</a:t>
            </a:fld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78AFB3A-593F-4040-972D-A09F0BBCBF0B}" type="slidenum">
              <a:t>&lt;#&gt;</a:t>
            </a:fld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58B9608-645D-4771-BCCB-CED7614F4AD8}" type="slidenum">
              <a:t>&lt;#&gt;</a:t>
            </a:fld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01D3134-C561-4CD0-8486-3BA123E05707}" type="slidenum">
              <a:t>&lt;#&gt;</a:t>
            </a:fld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7BFB835-9860-41F9-8429-5A691A481260}" type="slidenum">
              <a:t>&lt;#&gt;</a:t>
            </a:fld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8EA2310-A595-46D9-853D-8CBE1FEF3A38}" type="slidenum">
              <a:t>&lt;#&gt;</a:t>
            </a:fld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AE1690D-1EDB-4193-ADE4-A8DE863E1E5A}" type="slidenum">
              <a:t>&lt;#&gt;</a:t>
            </a:fld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999D1FE-AB45-4BAC-ACC3-99DC2485EA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1A6A9-7563-4A26-9728-70EEB3E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1D33EC9-9864-497D-BA62-6C490CD315A2}" type="slidenum">
              <a:t>&lt;#&gt;</a:t>
            </a:fld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87872F6-2614-4BD9-B47D-C3038F144EA5}" type="slidenum">
              <a:t>&lt;#&gt;</a:t>
            </a:fld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B81F170-E9BE-4D9D-92EE-21D93B2D5850}" type="slidenum">
              <a:t>&lt;#&gt;</a:t>
            </a:fld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9B00AF6-5749-4654-B63A-A1B7574EEB23}" type="slidenum">
              <a:t>&lt;#&gt;</a:t>
            </a:fld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CA32804-40BC-4D96-BFD5-782FDBB0F601}" type="slidenum">
              <a:t>&lt;#&gt;</a:t>
            </a:fld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38168F-6A4D-43C8-9A7C-835E0C4A2ED5}" type="slidenum">
              <a:t>&lt;#&gt;</a:t>
            </a:fld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4E1FDB-38EB-4C33-A447-B17B696B3329}" type="slidenum">
              <a:t>&lt;#&gt;</a:t>
            </a:fld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6836DD-74AC-4395-B6C8-8DD51BD93D7B}" type="slidenum">
              <a:t>&lt;#&gt;</a:t>
            </a:fld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06D433-AB74-4BCD-9907-7E374EDBC214}" type="slidenum">
              <a:t>&lt;#&gt;</a:t>
            </a:fld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8E866B-D438-4E6F-8118-C605EB018C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72C38-8D02-45E8-9D8A-F075ED56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EF701D-EADA-414E-9826-25EA18ECE80D}" type="slidenum">
              <a:t>&lt;#&gt;</a:t>
            </a:fld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65561D-1E80-4202-B6BD-E0A587360A33}" type="slidenum">
              <a:t>&lt;#&gt;</a:t>
            </a:fld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A7A9AF-A086-409A-BE20-B8FBDCACD1AB}" type="slidenum">
              <a:t>&lt;#&gt;</a:t>
            </a:fld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799BF7-7081-4AF4-BA1F-51F9649789EB}" type="slidenum">
              <a:t>&lt;#&gt;</a:t>
            </a:fld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F962EF-79B7-4B40-A2A2-9405F7E4FCB8}" type="slidenum">
              <a:t>&lt;#&gt;</a:t>
            </a:fld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888BE4-D556-4C04-A343-C31530229106}" type="slidenum">
              <a:t>&lt;#&gt;</a:t>
            </a:fld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B4EB93-8F22-4698-86B6-DC47DAB5A8CB}" type="slidenum">
              <a:t>&lt;#&gt;</a:t>
            </a:fld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08C8353-AED6-4B5B-B23B-0B05BE81F515}" type="slidenum">
              <a:t>&lt;#&gt;</a:t>
            </a:fld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2F9A9DB-6AFF-45E9-B47C-24B68EBCB2C1}" type="slidenum">
              <a:t>&lt;#&gt;</a:t>
            </a:fld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F4FC6E5-0E29-497E-BD60-F36C758C91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4D1EF-71A4-401B-9B7E-58B361E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D4A5B4D-B3E0-49E3-8CE2-5DA6C1B181EE}" type="slidenum">
              <a:t>&lt;#&gt;</a:t>
            </a:fld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639FAC3-999C-46F0-8D4F-97AAD0FF1D7B}" type="slidenum">
              <a:t>&lt;#&gt;</a:t>
            </a:fld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0932042-8145-4F4B-8946-B0F75DADEDB8}" type="slidenum">
              <a:t>&lt;#&gt;</a:t>
            </a:fld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29D63D5-5F0A-40AA-8752-FE948069BCC4}" type="slidenum">
              <a:t>&lt;#&gt;</a:t>
            </a:fld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88E791C-76B3-47CF-B6DF-CFD6FE3FECED}" type="slidenum">
              <a:t>&lt;#&gt;</a:t>
            </a:fld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9B05A0D-EDD4-4BE7-AF2B-545F0E13D622}" type="slidenum">
              <a:t>&lt;#&gt;</a:t>
            </a:fld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B36C5B1-6CC3-439D-ACE1-D29603DC2F80}" type="slidenum">
              <a:t>&lt;#&gt;</a:t>
            </a:fld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2DFA4E7-4392-4A80-B508-7F4A35AAC22B}" type="slidenum">
              <a:t>&lt;#&gt;</a:t>
            </a:fld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5BBE193-7D88-46C9-9512-BD4AC6F7AB3E}" type="slidenum">
              <a:t>&lt;#&gt;</a:t>
            </a:fld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818F200-BC8B-415B-99AB-F60BEC2946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22941-FAA9-4AA2-9256-507EC6C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1CC95DE-FA90-46D8-85BF-89E17661A092}" type="slidenum">
              <a:t>&lt;#&gt;</a:t>
            </a:fld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4F8AFDC-1828-446B-AC1F-BC1E447E32ED}" type="slidenum">
              <a:t>&lt;#&gt;</a:t>
            </a:fld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0454BB0-4F3C-4640-9606-EF3DE0F00651}" type="slidenum">
              <a:t>&lt;#&gt;</a:t>
            </a:fld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59E71D8-C68E-440B-A111-468447C156B8}" type="slidenum">
              <a:t>&lt;#&gt;</a:t>
            </a:fld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973DE2B-0283-471C-8858-ADDF2FCC2050}" type="slidenum">
              <a:t>&lt;#&gt;</a:t>
            </a:fld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CD6876A-71F8-4547-8F18-EF3ABAFE30AF}" type="slidenum">
              <a:t>&lt;#&gt;</a:t>
            </a:fld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CFD62B7-ADE2-4F41-B0D9-E6F30A7397DA}" type="slidenum">
              <a:t>&lt;#&gt;</a:t>
            </a:fld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6EA608B-AE8D-47F4-861D-D34E2F69228E}" type="slidenum">
              <a:t>&lt;#&gt;</a:t>
            </a:fld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AD774C3-CFB0-482F-936B-4BCDF6540FCF}" type="slidenum">
              <a:t>&lt;#&gt;</a:t>
            </a:fld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1D6F0BB-C1C0-426B-B6BD-92C5452AE10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A1C1D-C158-4A4C-BF5C-BD42DBEAF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805ABC7-3329-42C2-93F8-B7B637907413}" type="slidenum">
              <a:t>&lt;#&gt;</a:t>
            </a:fld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9DA2E3-6C2B-44BB-86BB-C4F4F35D0088}" type="slidenum">
              <a:t>&lt;#&gt;</a:t>
            </a:fld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54A11F-C0A5-486D-8BA5-BD156087A497}" type="slidenum">
              <a:t>&lt;#&gt;</a:t>
            </a:fld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FB6B30-F795-4245-9572-11D77503BDCD}" type="slidenum">
              <a:t>&lt;#&gt;</a:t>
            </a:fld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1C139F-2EBF-497A-BEF2-2152C56C9207}" type="slidenum">
              <a:t>&lt;#&gt;</a:t>
            </a:fld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44B724-C1C2-4A08-8AA6-F861B996BF81}" type="slidenum">
              <a:t>&lt;#&gt;</a:t>
            </a:fld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B466A1-C673-4C55-BF62-7C2DB0438591}" type="slidenum">
              <a:t>&lt;#&gt;</a:t>
            </a:fld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1D7239-9741-492B-B1BE-535D3D4FBEBF}" type="slidenum">
              <a:t>&lt;#&gt;</a:t>
            </a:fld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676ED2-68B2-4346-8F04-247E07FD5C2A}" type="slidenum">
              <a:t>&lt;#&gt;</a:t>
            </a:fld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87AE17-1278-4850-AD08-E9FFFAE7D3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513F-06AD-4AB6-A773-AAA6B34F5730}" type="slidenum">
              <a:t>&lt;#&gt;</a:t>
            </a:fld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E9A4D7-B0FF-4EEC-BBBC-B044EB86A96D}" type="slidenum">
              <a:t>&lt;#&gt;</a:t>
            </a:fld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FDD005-5C9D-487B-8929-003544E92847}" type="slidenum">
              <a:t>&lt;#&gt;</a:t>
            </a:fld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624BC0-3B4A-4307-8881-AF84EE7EAF2D}" type="slidenum">
              <a:t>&lt;#&gt;</a:t>
            </a:fld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22120A0-E74F-443C-BF3D-7DE3C9235F4A}" type="slidenum">
              <a:t>&lt;#&gt;</a:t>
            </a:fld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1397667-C17F-495A-AD70-56BBDFB0EDD0}" type="slidenum">
              <a:t>&lt;#&gt;</a:t>
            </a:fld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6FCCBE2-676D-4A8D-BA51-8640C464642C}" type="slidenum">
              <a:t>&lt;#&gt;</a:t>
            </a:fld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4499EF1-6ED0-4761-9C95-695B7D5E673B}" type="slidenum">
              <a:t>&lt;#&gt;</a:t>
            </a:fld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DB75520-3ADF-4D7D-BD16-0D243D6660CB}" type="slidenum">
              <a:t>&lt;#&gt;</a:t>
            </a:fld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BFDEDD8-77A9-4287-A61E-16806897DE3D}" type="slidenum">
              <a:t>&lt;#&gt;</a:t>
            </a:fld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4FFA9FD-FC09-4747-A3E8-64E393A54DA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E269-784E-4C66-8D99-FE41B5E2A82F}" type="slidenum">
              <a:t>&lt;#&gt;</a:t>
            </a:fld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734B855-26FE-47BD-AE80-C38E68D2A6A0}" type="slidenum">
              <a:t>&lt;#&gt;</a:t>
            </a:fld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47DC272-D8A5-4E7B-B55D-4282BF259AA3}" type="slidenum">
              <a:t>&lt;#&gt;</a:t>
            </a:fld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9B391FC-5592-421C-9A0C-BD7C05290E2A}" type="slidenum">
              <a:t>&lt;#&gt;</a:t>
            </a:fld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FEF4385-BE22-4A69-BD14-0AA6273867EA}" type="slidenum">
              <a:t>&lt;#&gt;</a:t>
            </a:fld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0A6CF7F-8D58-40E8-9679-5329C42A94F7}" type="slidenum">
              <a:t>&lt;#&gt;</a:t>
            </a:fld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6686CFA-6AA8-4C89-9EE9-D7A18E3AC76A}" type="slidenum">
              <a:t>&lt;#&gt;</a:t>
            </a:fld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FC0A14F-B0E1-4015-908B-F82500B458DF}" type="slidenum">
              <a:t>&lt;#&gt;</a:t>
            </a:fld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0DEF9CB-90F5-4D0B-B433-13FE11F7C36B}" type="slidenum">
              <a:t>&lt;#&gt;</a:t>
            </a:fld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0D7FBD5-7848-4356-AC51-A304C3CA4F37}" type="slidenum">
              <a:t>&lt;#&gt;</a:t>
            </a:fld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6F3ED9D-6561-4EB3-871D-05761A7C9B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9536-C7B8-4785-AB8B-B412FC65C04D}" type="slidenum">
              <a:t>&lt;#&gt;</a:t>
            </a:fld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9E464D1-74BE-421C-ABAC-DC3CDF631454}" type="slidenum">
              <a:t>&lt;#&gt;</a:t>
            </a:fld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9A346FE-86CD-45CE-A52C-7410A7EFE22F}" type="slidenum">
              <a:t>&lt;#&gt;</a:t>
            </a:fld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328932-3DC1-4953-B1DE-18D365FD0B96}" type="slidenum">
              <a:t>&lt;#&gt;</a:t>
            </a:fld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554CEE6-03D0-42C2-99CF-418F29D82E32}" type="slidenum">
              <a:t>&lt;#&gt;</a:t>
            </a:fld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2341D8E-CC77-46E8-A013-649A6D370FBD}" type="slidenum">
              <a:t>&lt;#&gt;</a:t>
            </a:fld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26FEC11-668D-400E-AB68-4775FBAF8592}" type="slidenum">
              <a:t>&lt;#&gt;</a:t>
            </a:fld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B8FA687-A798-4ECA-8EB3-3B8FBC19CA4F}" type="slidenum">
              <a:t>&lt;#&gt;</a:t>
            </a:fld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495440-693E-47F0-A019-78EBEF316129}" type="slidenum">
              <a:t>&lt;#&gt;</a:t>
            </a:fld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6FF8AD-F7D7-4AC3-907A-927CA9EA17E2}" type="slidenum">
              <a:t>&lt;#&gt;</a:t>
            </a:fld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040BBF-1EE9-4AF7-8BAB-373374A0E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C5FE-CFB2-4A0F-B5EB-BA7FD539E0B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ED23-3EDF-4022-90BD-4C3E6FD7851F}" type="slidenum">
              <a:t>&lt;#&gt;</a:t>
            </a:fld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B70BED-1AC8-444F-BBE4-A333B5E033A7}" type="slidenum">
              <a:t>&lt;#&gt;</a:t>
            </a:fld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498427-1096-4CA5-B77D-412B05B73381}" type="slidenum">
              <a:t>&lt;#&gt;</a:t>
            </a:fld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1CC63B-BE32-44C6-9CFF-F34C01309F30}" type="slidenum">
              <a:t>&lt;#&gt;</a:t>
            </a:fld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689FF8-D8AC-435E-8B51-F6D346B2E971}" type="slidenum">
              <a:t>&lt;#&gt;</a:t>
            </a:fld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7BBC94-F9F4-4A99-8CD7-D3412396A055}" type="slidenum">
              <a:t>&lt;#&gt;</a:t>
            </a:fld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F4A44A-6A80-494E-BC96-CBA5DCD9779B}" type="slidenum">
              <a:t>&lt;#&gt;</a:t>
            </a:fld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0F0586-F596-4DF4-8B84-0D74C723CF1E}" type="slidenum">
              <a:t>&lt;#&gt;</a:t>
            </a:fld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743755-7035-4D37-87DE-9359560E94C6}" type="slidenum">
              <a:t>&lt;#&gt;</a:t>
            </a:fld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C74A1B-6FD8-4CD7-B284-09F2804EF120}" type="slidenum">
              <a:t>&lt;#&gt;</a:t>
            </a:fld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BCA0442-F612-485E-8683-1B245DFE159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17FF-4BCF-4B3F-ACC9-7AACAA295E75}" type="slidenum">
              <a:t>&lt;#&gt;</a:t>
            </a:fld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2A360C0-ED37-46BD-A9FD-80C1E00526BF}" type="slidenum">
              <a:t>&lt;#&gt;</a:t>
            </a:fld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DBF2EF-40BD-423F-8171-784C1A4AA783}" type="slidenum">
              <a:t>&lt;#&gt;</a:t>
            </a:fld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3190B85-85BC-45C2-9CAF-EF7CA3049E94}" type="slidenum">
              <a:t>&lt;#&gt;</a:t>
            </a:fld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3F5B1FD-5E87-47FD-8C65-C96AA94F73A2}" type="slidenum">
              <a:t>&lt;#&gt;</a:t>
            </a:fld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77C9488-2844-442D-8691-250831446B61}" type="slidenum">
              <a:t>&lt;#&gt;</a:t>
            </a:fld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A5925AD-9558-407A-BC3A-24253569BF59}" type="slidenum">
              <a:t>&lt;#&gt;</a:t>
            </a:fld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D05EDEF-B5D9-4031-B7F0-4F9030D9ACD8}" type="slidenum">
              <a:t>&lt;#&gt;</a:t>
            </a:fld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990D7E7-1FCC-4E09-AD44-CFAEE207F668}" type="slidenum">
              <a:t>&lt;#&gt;</a:t>
            </a:fld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4BE6366-8CF8-4CF9-A71B-01CB5CA41B28}" type="slidenum">
              <a:t>&lt;#&gt;</a:t>
            </a:fld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1850098-7794-4F0A-B789-CBB65303D51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F0E3-20A4-4240-9075-E372AE8EB20B}" type="slidenum">
              <a:t>&lt;#&gt;</a:t>
            </a:fld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5E8DB04-0313-4D63-978B-4D72ED84EB34}" type="slidenum">
              <a:t>&lt;#&gt;</a:t>
            </a:fld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61FBCDA-C656-4E7C-B1D7-AE342CBA8BCC}" type="slidenum">
              <a:t>&lt;#&gt;</a:t>
            </a:fld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4AFC414-894F-4FFC-8BC7-8668C5C69650}" type="slidenum">
              <a:t>&lt;#&gt;</a:t>
            </a:fld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F27E7C9-5219-4080-89DE-A656FCC0312B}" type="slidenum">
              <a:t>&lt;#&gt;</a:t>
            </a:fld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67F2DD5-05DB-4ABF-82DD-3CBBDF189A96}" type="slidenum">
              <a:t>&lt;#&gt;</a:t>
            </a:fld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5F288B5-AD1F-4F67-AB8E-F6F7E0D2E2ED}" type="slidenum">
              <a:t>&lt;#&gt;</a:t>
            </a:fld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539BAF8-6B1F-4DCF-B406-23262625C904}" type="slidenum">
              <a:t>&lt;#&gt;</a:t>
            </a:fld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B6059E4-5198-48A3-B943-FAB7AE0C247F}" type="slidenum">
              <a:t>&lt;#&gt;</a:t>
            </a:fld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7549248-FC40-407D-91BE-041762913955}" type="slidenum">
              <a:t>&lt;#&gt;</a:t>
            </a:fld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5D1F4A1-5B0F-4CD7-81DF-998FA8F5B98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5D05-1C70-48E2-B441-DF96E575930C}" type="slidenum">
              <a:t>&lt;#&gt;</a:t>
            </a:fld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5B52545-612D-40B3-90FE-8C2C6F9D9CB0}" type="slidenum">
              <a:t>&lt;#&gt;</a:t>
            </a:fld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20B23D2-C2B0-4BB6-B66D-EBD0A77BEAF6}" type="slidenum">
              <a:t>&lt;#&gt;</a:t>
            </a:fld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CF577FC-DDCF-445E-AA87-6DB683C00529}" type="slidenum">
              <a:t>&lt;#&gt;</a:t>
            </a:fld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FBE54DF-A023-47D1-9088-97EC640018C4}" type="slidenum">
              <a:t>&lt;#&gt;</a:t>
            </a:fld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303400-7DCD-4B25-8E3E-61EB047E5015}" type="slidenum">
              <a:t>&lt;#&gt;</a:t>
            </a:fld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C96FDE-09D4-457B-9660-D0A2F11147E0}" type="slidenum">
              <a:t>&lt;#&gt;</a:t>
            </a:fld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08408E-A5FF-4C5A-818E-3F0478F2353D}" type="slidenum">
              <a:t>&lt;#&gt;</a:t>
            </a:fld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D765A0-46BB-4C65-B75B-4DDF141398C8}" type="slidenum">
              <a:t>&lt;#&gt;</a:t>
            </a:fld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C6708C-40A6-42D0-A781-773FD9730040}" type="slidenum">
              <a:t>&lt;#&gt;</a:t>
            </a:fld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485839-DF68-46E1-A7E9-6F27359ACB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6473-BE28-4BDB-8C0F-198E8D60EF03}" type="slidenum">
              <a:t>&lt;#&gt;</a:t>
            </a:fld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F82EA5-F7D4-42FC-9202-667258477D60}" type="slidenum">
              <a:t>&lt;#&gt;</a:t>
            </a:fld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302F66-6A4E-44D9-A87E-F613BBF4B4C6}" type="slidenum">
              <a:t>&lt;#&gt;</a:t>
            </a:fld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855B0A-868A-42BF-A4C1-6C25FC7443DC}" type="slidenum">
              <a:t>&lt;#&gt;</a:t>
            </a:fld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7D312D-F611-4BB0-A3C4-A48500343AAE}" type="slidenum">
              <a:t>&lt;#&gt;</a:t>
            </a:fld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EE9FC6-A9DD-457B-A9F7-1DC93F4B1931}" type="slidenum">
              <a:t>&lt;#&gt;</a:t>
            </a:fld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B79BBBB-8F01-4808-A934-4472A6FFA998}" type="slidenum">
              <a:t>&lt;#&gt;</a:t>
            </a:fld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53A883D-672A-41AC-A3AA-EF00D09D22E3}" type="slidenum">
              <a:t>&lt;#&gt;</a:t>
            </a:fld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034F46B-1D18-4AE9-A479-86C5221D6602}" type="slidenum">
              <a:t>&lt;#&gt;</a:t>
            </a:fld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E4CDB26-FE72-4AC3-AE5F-92917DF34A9A}" type="slidenum">
              <a:t>&lt;#&gt;</a:t>
            </a:fld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F203568-FEA8-45B8-BC46-D68B70DE57A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FC8FD-FA3B-4CDF-ABB5-4F787171909A}" type="slidenum">
              <a:t>&lt;#&gt;</a:t>
            </a:fld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AB54054-E176-4863-94FA-4126A98756D8}" type="slidenum">
              <a:t>&lt;#&gt;</a:t>
            </a:fld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426C04D-3359-44D4-98EC-7AF66F37FBAF}" type="slidenum">
              <a:t>&lt;#&gt;</a:t>
            </a:fld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B7D6F29-75E4-4069-A3D1-E79F9FC9D135}" type="slidenum">
              <a:t>&lt;#&gt;</a:t>
            </a:fld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06079EA-3F77-4DAC-A4FE-72FF9B991051}" type="slidenum">
              <a:t>&lt;#&gt;</a:t>
            </a:fld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4FD6E11-9B26-476A-8187-C9CAEDDD3B99}" type="slidenum">
              <a:t>&lt;#&gt;</a:t>
            </a:fld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2F72011-B2CD-42AA-B2BC-FEE129434755}" type="slidenum">
              <a:t>&lt;#&gt;</a:t>
            </a:fld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A30B014-8AF8-4FF8-894E-036725349A4D}" type="slidenum">
              <a:t>&lt;#&gt;</a:t>
            </a:fld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6B54512-E416-491B-A4DF-0DDBA1314127}" type="slidenum">
              <a:t>&lt;#&gt;</a:t>
            </a:fld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95233D9-F203-498F-93BD-9A973B1064A2}" type="slidenum">
              <a:t>&lt;#&gt;</a:t>
            </a:fld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F397541-D5CB-4CD5-A532-A2DE9DC8E91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9F5C-3399-404E-88C2-25399725A04A}" type="slidenum">
              <a:t>&lt;#&gt;</a:t>
            </a:fld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FA4B0E3-534C-43DB-93DD-3FCC38E53248}" type="slidenum">
              <a:t>&lt;#&gt;</a:t>
            </a:fld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BB399D4-A805-499A-8C04-9670526EC928}" type="slidenum">
              <a:t>&lt;#&gt;</a:t>
            </a:fld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10C3ACF-92D6-40D4-9B2C-B79A823E0960}" type="slidenum">
              <a:t>&lt;#&gt;</a:t>
            </a:fld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4ABB183-EB27-4341-856C-9C4D01BC0113}" type="slidenum">
              <a:t>&lt;#&gt;</a:t>
            </a:fld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3E4718D-BEE3-42F6-8CF4-EEA617C470EF}" type="slidenum">
              <a:t>&lt;#&gt;</a:t>
            </a:fld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CEDAF6D-F8E1-41D9-838D-BC869BE05521}" type="slidenum">
              <a:t>&lt;#&gt;</a:t>
            </a:fld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CDC5F67-82AD-4FBD-8948-C3E5F2E3AD20}" type="slidenum">
              <a:t>&lt;#&gt;</a:t>
            </a:fld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7AB1918-521C-444C-BD7C-7322463F7807}" type="slidenum">
              <a:t>&lt;#&gt;</a:t>
            </a:fld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33F397-7E05-410D-953F-A957686A21E9}" type="slidenum">
              <a:t>&lt;#&gt;</a:t>
            </a:fld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814760-81A8-461A-ADBE-334030FB60B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1D50-065A-46B7-A6CB-BADE9D3AB8F2}" type="slidenum">
              <a:t>&lt;#&gt;</a:t>
            </a:fld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50660E-1FF9-4286-AD71-175AB82F36A4}" type="slidenum">
              <a:t>&lt;#&gt;</a:t>
            </a:fld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1EDFD8-25C6-4E0F-B1AE-CE3353C5A9A6}" type="slidenum">
              <a:t>&lt;#&gt;</a:t>
            </a:fld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137DEE-52BA-4722-BAC2-C3FB6C471A51}" type="slidenum">
              <a:t>&lt;#&gt;</a:t>
            </a:fld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775EFE-D62E-4F5B-90D0-850D59185556}" type="slidenum">
              <a:t>&lt;#&gt;</a:t>
            </a:fld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C41E0A-E397-475C-B1EF-63B71550ECFF}" type="slidenum">
              <a:t>&lt;#&gt;</a:t>
            </a:fld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0AFCB0-2861-463B-B230-F102D0C51605}" type="slidenum">
              <a:t>&lt;#&gt;</a:t>
            </a:fld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DD40F9-0E4D-4FB3-BFDB-40D54AFF27E8}" type="slidenum">
              <a:t>&lt;#&gt;</a:t>
            </a:fld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5A42AE-CD90-4CA0-A943-1580BDDCB9E4}" type="slidenum">
              <a:t>&lt;#&gt;</a:t>
            </a:fld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D16B8AA-3D8C-443C-9220-073D00D386AF}" type="slidenum">
              <a:t>&lt;#&gt;</a:t>
            </a:fld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1A659E-7680-4D57-B235-AD08883FA66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1CFCB-4785-4203-98C4-788E64F73766}" type="slidenum">
              <a:t>&lt;#&gt;</a:t>
            </a:fld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F49529-E537-4F50-BBCE-1C186496DA76}" type="slidenum">
              <a:t>&lt;#&gt;</a:t>
            </a:fld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024BC5-5480-4998-8E2E-0DFC2251A82B}" type="slidenum">
              <a:t>&lt;#&gt;</a:t>
            </a:fld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38F709E-C109-4E05-8883-98541A5B9C0C}" type="slidenum">
              <a:t>&lt;#&gt;</a:t>
            </a:fld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61191D1-E150-45E9-AA37-EB0AA64ABB60}" type="slidenum">
              <a:t>&lt;#&gt;</a:t>
            </a:fld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FAD41E6-3590-4AD1-9AC4-ED0E47BE736C}" type="slidenum">
              <a:t>&lt;#&gt;</a:t>
            </a:fld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22A277-7B9F-4B07-B787-57F39399C400}" type="slidenum">
              <a:t>&lt;#&gt;</a:t>
            </a:fld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678978-B997-44E1-B209-A67EEFDC04A8}" type="slidenum">
              <a:t>&lt;#&gt;</a:t>
            </a:fld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8D8077-6B6A-4C6F-8893-29D1C40CF7B6}" type="slidenum">
              <a:t>&lt;#&gt;</a:t>
            </a:fld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B46191A-4535-41E0-90F9-476C4B824F67}" type="slidenum">
              <a:t>&lt;#&gt;</a:t>
            </a:fld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6B0D91-2709-4CCD-9A30-DFFB8BD379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C2AA55-58B1-418B-A238-B760966726C1}" type="slidenum">
              <a:t>&lt;#&gt;</a:t>
            </a:fld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E8EB3CC-1E2C-469B-B7AD-EEDCB24360D0}" type="slidenum">
              <a:t>&lt;#&gt;</a:t>
            </a:fld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F5ADCAB-9C60-42CB-9CC1-AFF3C23493F6}" type="slidenum">
              <a:t>&lt;#&gt;</a:t>
            </a:fld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F78779-B034-46BA-8FFC-2D1345BBA321}" type="slidenum">
              <a:t>&lt;#&gt;</a:t>
            </a:fld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6250A54-CD32-46BC-8EE6-2927FA62665A}" type="slidenum">
              <a:t>&lt;#&gt;</a:t>
            </a:fld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D1B7824-0BBA-4803-AB78-C103A8E1446D}" type="slidenum">
              <a:t>&lt;#&gt;</a:t>
            </a:fld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3FEE024-C3DC-4A0A-BB38-8244C86B4E01}" type="slidenum">
              <a:t>&lt;#&gt;</a:t>
            </a:fld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5A780A7-C00B-4F4F-9296-4F55F72EC6E1}" type="slidenum">
              <a:t>&lt;#&gt;</a:t>
            </a:fld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1A631CB-9A07-4B8B-A591-770738019319}" type="slidenum">
              <a:t>&lt;#&gt;</a:t>
            </a:fld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0C95CC8-D8B4-4F68-8185-6851C63CC5D1}" type="slidenum">
              <a:t>&lt;#&gt;</a:t>
            </a:fld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99E720F-0D5C-45C8-A29D-33046EB54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25E7-DAC0-4221-95AA-AD7F86DB7D2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A41543-95F7-4D01-B861-5608BE5E6925}" type="slidenum">
              <a:t>&lt;#&gt;</a:t>
            </a:fld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91EE188-4946-4CBC-A50E-57A279CDFBE2}" type="slidenum">
              <a:t>&lt;#&gt;</a:t>
            </a:fld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44443D1-9892-48FE-8C7F-45C0AB54E253}" type="slidenum">
              <a:t>&lt;#&gt;</a:t>
            </a:fld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44656BA-335B-4D0F-8E11-C89E65D53C5B}" type="slidenum">
              <a:t>&lt;#&gt;</a:t>
            </a:fld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E46232D-174A-4CD9-B00D-0F53A812E395}" type="slidenum">
              <a:t>&lt;#&gt;</a:t>
            </a:fld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57FAEBE-A294-4A33-91A0-DB253D2517E6}" type="slidenum">
              <a:t>&lt;#&gt;</a:t>
            </a:fld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1FC7F5-9546-4B69-BBD6-A257D23BA046}" type="slidenum">
              <a:t>&lt;#&gt;</a:t>
            </a:fld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947CEDB-F74C-44C7-B792-BBD0ED4B16EE}" type="slidenum">
              <a:t>&lt;#&gt;</a:t>
            </a:fld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C3691D-BF45-49D8-BD3C-62F74F662B8C}" type="slidenum">
              <a:t>&lt;#&gt;</a:t>
            </a:fld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2C9354B-1573-4E68-8312-6942B514ABA0}" type="slidenum">
              <a:t>&lt;#&gt;</a:t>
            </a:fld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0FB495-24C7-4C6C-9D71-3204AFC1E30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B36F9-2A5C-4F20-8831-25C230F83D84}" type="slidenum">
              <a:t>&lt;#&gt;</a:t>
            </a:fld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DF77F2-D1F5-4909-B250-DAD2F935EA31}" type="slidenum">
              <a:t>&lt;#&gt;</a:t>
            </a:fld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2414DA-1793-4B01-8B7B-7E9B77BDD679}" type="slidenum">
              <a:t>&lt;#&gt;</a:t>
            </a:fld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191257-ADB1-4005-9BCB-54A2BAF1BDED}" type="slidenum">
              <a:t>&lt;#&gt;</a:t>
            </a:fld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9E7321-93E1-4BC5-9478-DF2C44A82849}" type="slidenum">
              <a:t>&lt;#&gt;</a:t>
            </a:fld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48EB6F-EC2E-42FC-9AE3-5A2BAB5EF75E}" type="slidenum">
              <a:t>&lt;#&gt;</a:t>
            </a:fld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EF9146-0160-401D-B6C3-70F2C065DF94}" type="slidenum">
              <a:t>&lt;#&gt;</a:t>
            </a:fld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B40205-C00C-4758-8C18-D3FB78EB4955}" type="slidenum">
              <a:t>&lt;#&gt;</a:t>
            </a:fld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44FB4B4-9407-416F-B92D-8F0361CB35CF}" type="slidenum">
              <a:t>&lt;#&gt;</a:t>
            </a:fld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FC83AA-EE89-4AFE-BE53-CAD04902019D}" type="slidenum">
              <a:t>&lt;#&gt;</a:t>
            </a:fld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A18F6D5-41A5-4398-A808-36D0E100375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82A51-20CB-4E7F-AEE2-8BA8EA878E96}" type="slidenum">
              <a:t>&lt;#&gt;</a:t>
            </a:fld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E954B58-002A-495E-B4F6-68F67ED86B84}" type="slidenum">
              <a:t>&lt;#&gt;</a:t>
            </a:fld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C659BBE-BE43-41F9-936C-9C7ADD8FECE0}" type="slidenum">
              <a:t>&lt;#&gt;</a:t>
            </a:fld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4872065-70A4-4C0E-9FFA-E06662811AE2}" type="slidenum">
              <a:t>&lt;#&gt;</a:t>
            </a:fld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7716824-535E-4E58-B75C-76FCBE16A837}" type="slidenum">
              <a:t>&lt;#&gt;</a:t>
            </a:fld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E91E1A-929C-4337-9E5B-CEE5F6DD9A48}" type="slidenum">
              <a:t>&lt;#&gt;</a:t>
            </a:fld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A58B544-3558-47D7-A234-AD135C705951}" type="slidenum">
              <a:t>&lt;#&gt;</a:t>
            </a:fld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C0CF88D-5666-4768-AB37-000AF053089E}" type="slidenum">
              <a:t>&lt;#&gt;</a:t>
            </a:fld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CD3200D-3558-4917-AE3A-3A587C40FFC7}" type="slidenum">
              <a:t>&lt;#&gt;</a:t>
            </a:fld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05C664D-0602-4DD2-85D4-99A653F5EA15}" type="slidenum">
              <a:t>&lt;#&gt;</a:t>
            </a:fld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96626FC-9717-4F68-9AE9-843D5E16A0F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C6BD7C-2132-4A8B-B125-915F4E90608E}" type="slidenum">
              <a:t>&lt;#&gt;</a:t>
            </a:fld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1AF48F2-406D-4F97-98ED-1141F8497112}" type="slidenum">
              <a:t>&lt;#&gt;</a:t>
            </a:fld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1C7E8F7-FBCE-4403-B9EE-A0C651BCF63F}" type="slidenum">
              <a:t>&lt;#&gt;</a:t>
            </a:fld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E4556BC-4CF0-4502-BB37-07E12C2BA139}" type="slidenum">
              <a:t>&lt;#&gt;</a:t>
            </a:fld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B34FF3A-028E-4FA3-AC00-AB17A343F423}" type="slidenum">
              <a:t>&lt;#&gt;</a:t>
            </a:fld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85758D8-9DF8-4F05-8BFD-257FC07F013B}" type="slidenum">
              <a:t>&lt;#&gt;</a:t>
            </a:fld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132E257-0E41-431D-B40A-44EA8B8DF950}" type="slidenum">
              <a:t>&lt;#&gt;</a:t>
            </a:fld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66C988A-9AD5-441E-8B4F-786D86129E98}" type="slidenum">
              <a:t>&lt;#&gt;</a:t>
            </a:fld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E8D3D55-2433-4E87-85BA-9E224313F514}" type="slidenum">
              <a:t>&lt;#&gt;</a:t>
            </a:fld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E7CDDCD-ACEC-4206-9F90-3CE2456E3DFF}" type="slidenum">
              <a:t>&lt;#&gt;</a:t>
            </a:fld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0A3CB6-B9CA-4D65-8AF3-21865CDC119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1BDD43-210B-4E07-AACA-4A4971EF8C44}" type="slidenum">
              <a:t>&lt;#&gt;</a:t>
            </a:fld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E4A914E-6B0B-4264-AC63-BB66FD7D2533}" type="slidenum">
              <a:t>&lt;#&gt;</a:t>
            </a:fld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2F63C85-F85F-420B-8EAA-04C86B968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2264172-7296-4EF7-80DB-54B751F7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6D2934F-2ECF-457D-9B28-44922207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2D91A45-A315-440A-9FB5-9AA8291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0B116BB-992A-4231-8D7D-A7A615D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F4E452E-8D3C-4EC0-BF43-BB5ED76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CF7B777-F43E-441D-8158-15E856A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DC08032-A02B-4066-BC3D-B3CE479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44FF60E-D2D1-48D0-8A90-3B82C37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261D1-3EDD-4C0E-A28C-19B765119599}" type="slidenum">
              <a:t>&lt;#&gt;</a:t>
            </a:fld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8FE4EE1-ADE5-4DED-9ACF-7E2E2F58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951055F-B315-48B1-9361-8BBD1EB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826F183-DA73-43EA-839C-965837BC7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70AABF-491C-4DF5-B89F-B945B7D5F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B09831-16DB-42DB-9B46-2112601A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8C5002-0FBF-4F5A-82FE-29D15AA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DA70B6-315F-4464-9B8B-07929D3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CBC7DB4-C418-4FAF-87A7-13D44485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76D3BE-AA02-439B-96DA-6210383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7572CE-6654-41CB-B280-F971E5B6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A1C98-C773-4A81-B735-9D5E3898455F}" type="slidenum">
              <a:t>&lt;#&gt;</a:t>
            </a:fld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C11773-0FA9-446B-B480-3E3E1481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F50CA7-A50E-4BCE-A1CB-4E8654BC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56C320-9AF6-4BCA-A2B4-EA13A0E4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A4B7F27-8F7B-4E83-A4FA-C3B6B6B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CB5377-BD27-4CFE-935F-A34400534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14AC6DD-DC4B-4774-A58E-29CEDAFAF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FC28918-8DD1-4181-807E-00B7D855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CF5D2BB-BBE1-4EC2-A03A-F1BA881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D314573-91A7-4700-899D-155A44D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3683F0B-8562-4312-92FE-32FF95E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0FCFA-908D-475B-842E-489FBA83F071}" type="slidenum">
              <a:t>&lt;#&gt;</a:t>
            </a:fld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FE8EE5A-C8D2-42FC-A09F-A1C8B67F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32174ED-F0F9-4ECF-98F0-58D3A78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44C3BB6-6D99-428F-BD63-32B2E64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CA73FA9-A36C-4B03-96A5-4231D1E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A58C4FD-399B-44A1-92D7-C05A059C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687991A-DCE4-4001-A069-36A8BA7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292C4AE-9588-4D59-8773-EBCFDF266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4DE51A5-C02C-412E-991F-C4E858A20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B1E18C8-C4CC-491D-A6A1-CE9EF616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9C529D4-3CC8-47FF-8572-D08477A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241F6-D7CC-41D1-BB9B-785274E75D9F}" type="slidenum">
              <a:t>&lt;#&gt;</a:t>
            </a:fld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8F7BE1B-EB8D-47CD-91BF-50E0521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9575CE9-3C57-47D2-A015-0D74CB8B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D79A774-3E97-45FD-8E15-0C6A5924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02739B5-D3B7-43AA-B2E8-5EC9C63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9C4AD12-5CA8-4174-B192-0EF6693D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C5F8E9C-4C51-4546-B074-FA09C35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CE6CC03-B7C6-4CBA-A6B7-29627362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C794222-7329-42BB-BB68-2C70AA6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95146B7-058B-4CA3-A37F-CD531030E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05B9AA-2FB0-4E7A-9BE9-105A1F808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0F225-4083-4588-8285-8969BFC663FE}" type="slidenum">
              <a:t>&lt;#&gt;</a:t>
            </a:fld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DBBB7F-C932-4A13-8090-012E153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4F08CF-48F8-4118-BB70-86BC24EF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0B1CB9-F303-4A73-895C-1AE92B7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C2924A-9D3D-4895-8143-5375D069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5B9F44-CC4C-45D3-A73B-A5AD9A29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7FAE07-4830-4669-93E7-624672A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C925DB-A4FD-46FE-A9AD-6BAA0D44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70E0F9-C0A3-467F-9D2E-7836C46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2858C2-8FA4-403D-9305-244739B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C9E3A3-07F8-4723-8070-DC8E68A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2EED-B55A-40A1-83C7-2BB072843EE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F4E73-1953-4347-B0C4-FE10B657B2CC}" type="slidenum">
              <a:t>&lt;#&gt;</a:t>
            </a:fld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5D734D-4958-47EF-86B4-B8AF25263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A4E9C2E-CB39-49BC-9AD2-32B9913F5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8E7E207-C452-42FC-B64D-FB794A4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F870FB1-994C-4FF7-9989-AB72D16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9833DAD-2C32-43BC-8318-8B3D730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1B566A9-5702-41AC-A473-D864FC40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43F136F-68E6-49C1-80AA-52AB6261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0C7B128-B965-42F1-8AF7-94C13E9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6CD92E6-94DF-4B77-B2B2-1D34BD8F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6AF711F-098D-4AD5-AF22-6E5276D7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79B44-443F-4256-BF54-9019A86D4EA1}" type="slidenum">
              <a:t>&lt;#&gt;</a:t>
            </a:fld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B02CB1F-8B4B-4A28-9F68-ED031A15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EBD8DE4-72A6-4EB4-88FE-A7E6F67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3E9A6C2-BC15-44E3-B97D-8662564E3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696AE0D-4ED2-4D39-B3C6-AF9D7ECB1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7C2E479-3D14-42D0-854A-5F2A033F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640D1B4-BD04-4BE8-B21A-E6B6DFBF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A6F4262-EE24-46BF-A234-5F378B45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84EBB57-65AC-4E5D-A1E5-60CEA8FE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594255E-7D65-4FF0-8850-5E9DEECF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F1D7BBA-93B4-41D4-9928-E8AE5E3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79F2-9289-4AD1-875B-7A644CCCDDD8}" type="slidenum">
              <a:t>&lt;#&gt;</a:t>
            </a:fld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169F742-8DD5-46C0-9D6E-E5078C2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B5A1D67-B9A6-447D-B4B0-9BC49ED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D794898-A60A-4BB2-8224-84DFCAF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214127D-CB42-4A21-AE9B-097F969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916D843-8D96-4BAA-B135-43BD7CC96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EDC80D-6F7F-48A5-9D13-B875815A9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4F8DE6-47FC-42E8-9AA1-CE7CD33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241466-3782-4C1D-9297-DC81E214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80CF9AA-7657-4781-9DA3-C5A76967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2150B3-7A3E-4CB4-8046-626D69E5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3627-E4F7-452C-8BE1-01AC0152AA70}" type="slidenum">
              <a:t>&lt;#&gt;</a:t>
            </a:fld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A36DF8-21CE-42FF-AE95-6FA45A57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CD0202-70B9-4B64-BBD3-7C29A3D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F6FDA4B-3067-403C-BC35-32369EF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A94DF5-5C25-45E5-9075-F89C70EF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F0AF67-E728-410A-9E58-626746C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EFC7FB-C0BA-408B-ACB2-0DFBE57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891BA4-30F1-4837-A726-779CD8886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2DA5028-EAA1-4EAC-B35E-963DC2CF8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6E85CD7-0421-4D43-8E64-6B66615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2A88128-4F77-487F-8BE0-DF91DC74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B125E-F957-4421-A692-0CF20259B6C3}" type="slidenum">
              <a:t>&lt;#&gt;</a:t>
            </a:fld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54F4A14-A853-4B02-8EA0-85121729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040A33A-65D3-4F18-AEC8-FFDF1DFF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FB6DCDB-FC01-484E-88A1-6ADFA8B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9D795FA-EE13-4BD1-9C2B-0CD2C20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CDEE606-9D6D-419A-9B54-20036999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2304115-C71B-41E2-B2EA-F10FDC0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D7470A5-92D5-4E40-A145-EE10BD7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388C57E-36C9-431C-ABCE-9021D2A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3107D83-4DDC-47F2-A170-A544C45D8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BD07BC7-AAA0-4DD3-9384-D8C3D98AB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B04F9-39D6-482F-AF0E-9F547B434C43}" type="slidenum">
              <a:t>&lt;#&gt;</a:t>
            </a:fld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64D4612-63D4-42CE-913F-AB317FB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A981F5F-6B89-4E14-B960-DB2ABFDC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593977A-F636-40F0-85DF-4D49806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A5CBCF8-85BA-4C98-BC64-DB58A567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88A2377-16C2-46A0-9B69-466DDEF0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546B84A-FADD-4EB2-A066-41135FF4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7E086FB-FF54-40ED-B840-2F4722E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33E76BB-6F7E-4D13-B6AA-25E0FD92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3E766F3-1DC0-4144-BE93-974CE27B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60A1342-365B-4F4E-945D-9CCDA40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90137-1296-488D-B268-BC1976F7D0A5}" type="slidenum">
              <a:t>&lt;#&gt;</a:t>
            </a:fld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7C88E1C-429D-4272-9FE2-C13EDE9EF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053459-08EB-4BC4-A3AC-357A8E9A6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383F86-8C46-4C01-9513-E7104D9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30D83D-C7C3-4F17-94D0-28AFE58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A4798C-8FBB-419F-B337-AA08C545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363429-F56C-42BE-87CD-F756FF04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98BF5B-A219-4EDB-8759-A637206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3A2AFA-8135-40E6-BF27-1F24E949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782F66-6129-43FB-8684-ACCB86E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FC0284-0FBA-4494-9C42-2D6FCAE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8D48C-EE87-49D4-8B42-5945BD54C8F8}" type="slidenum">
              <a:t>&lt;#&gt;</a:t>
            </a:fld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E0EAC8-9A4E-4FA2-91D2-CC499C6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39E4AB-B9CA-4E22-886C-57DC590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9796141-A0D2-4469-8172-866967A07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F731F-BFB2-4C65-B389-B1C1475092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8E802-80BA-47EB-89F4-9DB2EC4C5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A380-9460-49C2-BAE1-D214EBE1E7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AA377-77BD-4781-9E7B-07F405DD38D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F7E68-8ED8-4532-B037-032498C8E02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0301A-3958-477F-AB07-96AFAD34007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B757-2194-4435-AB61-6184DB40168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5DC9-8CAD-452F-BEE1-86E92F69DE2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5503-B77E-4D2A-A854-6B69903BF0C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AD3A-A907-4502-B25A-3077823A4B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7684-3264-4F06-9D78-4006D80D4CD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A5C1E-C6E0-4907-87B3-CF308EA0675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29E6-B086-4660-9D41-5377D469C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F73F-11F1-4767-9B6D-0B200086E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025A-6EC3-4793-958C-518308CD2E5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0D8E-C030-49CA-8054-DBD2C5AE8EC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2650-E812-48B3-85EA-201F5B21F05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0AB6-3E1C-41F5-BFB3-CE3452D8BE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633D-5758-49A8-8A91-8A9B98BEFDB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694C-D56B-4D01-BA46-D2A91BB137B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9FBED-B649-4EC6-9B29-F6BE8D73B41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E2447-0460-48FD-B587-738596C964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B780A-EC5D-4770-A93E-5EC9263935B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54F8B5-BD18-4748-A42B-1A0E5AFA957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08E8B-299E-4FE2-9F35-86E1C00511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FCD7-0589-4D41-8A6D-29F194F71F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04B2AA-A72B-49A6-B698-F7F74966DBE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A94D9-1B52-447B-BB6D-40342909B46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5115A-3B35-477D-B913-BC14E921F26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5162B-C279-4980-9CF3-AEFC02CF52B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0959EC-F927-4818-ADC1-0F91C4FE138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34AA9B-C7DD-4432-82AF-3D188286854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44861-719C-49F3-9FC5-84BAD9139A5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64BCD-8795-46FB-8406-51B4AB3A401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81012-3A2C-4B12-A9F5-99D6D1D1495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7854A-DC33-4131-AF54-B0455F67F3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D716-721F-4E48-97A5-B28EC89A50C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7CEAF-798E-4B1B-8F44-E4023251504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898B9-E11E-4675-ACC2-9BEE77857B5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2ABEF-1E1B-4FE8-A9D3-6B8213254A4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86783-AAB1-4D91-A893-2D298327288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831D0-B1DD-4734-8826-6D33DB76BF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C9866-5179-4999-9B73-67FE066655D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53676-7943-4A56-9A19-17BB4CB9FCB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88F6C-404D-4CD3-BC30-3F1B598AD12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0374F-087B-43A1-AE16-BBEF41C484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21237-8B2D-45C0-B3E5-8C85B5C144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9E4C-8ADE-4E92-9A5A-F6907161893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211C-740E-40CF-B026-09FC56E2579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77749-8514-4784-AEF7-D3CA35D9DBD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149A-3078-446F-A3A9-CB9568C2F01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02E8-F130-45E3-A420-EC5D0D8E0CA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BDE4-E37F-40AC-A800-9DE6A6FCEB1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3D65-8808-4BD9-AABC-1C98B4F867B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B888-3B30-4725-A619-CF9A7B43BC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2933-1A8E-4477-9C6F-D3BE5C21E2B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044D-92FA-48CA-9FBA-42C33576AFE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5378B-C1B0-4E13-8AFD-057735070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45C3-A9E4-4062-826E-DF810843B3B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A714-0D53-4450-B734-CFC6C307EF7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4458DF-77BD-4DBD-842E-32E12A530A3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342B4-CA8B-4D8E-B2C9-0E6C2C98B6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05C54-1C0C-4415-A92E-1820B9AD6A1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68C247-91DB-408B-8AF1-B271CF0DC51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B7F70-08C7-4BF0-9384-5CBBDEA5BA7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3D6AA-C9F3-4683-9591-3D33FECE196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7CDF0-9684-41F2-A873-77580BBBFD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8761D-8491-4F90-98F6-00DE9EE4967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F08B0-4B8D-49CA-A762-C8DC2410EF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CC6-2B5A-4EB1-AE27-828C68BFD61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095E4-C44B-4AEE-8D93-71EEDA18774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8F1B77-F4B5-40B3-9FA8-BF3E3DE82F8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387A94-9A6C-4859-9523-C8D463B36F5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D16AC-5B13-49E8-98B6-2744956E4CC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7066C-97F1-4C58-AD4F-99FF0FAEACC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D0B7AE-CA1A-4EA9-B54B-E149BE75B1E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F7192-25D7-4F11-B67A-81CBD162679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862D1-A741-4D43-9FA0-211713FC6C5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C27305-98DC-44B2-8B22-F45B4BADC06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35231-E2BE-44D9-8166-47AEE72FF2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E20-9C0E-43A4-8A70-AB96CCD0686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D7CA2-F4BF-4D85-806E-A9B5B3ECBF6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3FBCF-E095-47CC-BABB-1D2487AE777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F59AD-1DA2-4AE8-9FD9-FC69A3E0E32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D20FA-E7AF-4C3B-A148-8B512FC3DC0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3EF85-DE5E-40EF-B34C-42D76B4453D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EDEB-7A71-4651-BCA2-3021A387D6D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C1D6-088C-4FA4-B370-47970BABEB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4EBE-3A8A-4DA4-96C0-2800B9CEF0C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70CB-F650-4BE4-A4B7-D0335DA1AFB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5AC6-007E-4989-BB6D-C6E11E2DC1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D0E-85CB-49FD-A334-9E20519BB2E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9C95-BA36-42CA-94EF-897C28BA2F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7D025-9178-4F78-8954-DCABD318406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A8BBB-EB9E-4F91-9A1E-0BA13AF9202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861A-0036-4D05-BF72-72E41434C92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50C9-0EC7-47D4-9A76-1BCB4C410C5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E2D3-3F53-4499-A936-BB91934829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9BAD6-4EBC-4EB4-A9F5-D5D5186D35C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10A06-FD6F-4B01-9463-3E895CD3145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56ABA-5914-45F0-8F2F-962B8B7AF66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209FC-E273-44E6-AE0F-D5BB597DCB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510-7888-4D39-82AD-72899C68CE5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DDA54-80BF-4DB6-80DB-648E869B78E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CA5C-DDF8-496F-BC2B-7833D9BC43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69F73-1857-407A-BF4B-F8FC994A5B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EB7C4-8BD0-4675-B97F-E1D97939736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0D92A-F3EC-4D10-87DD-D0DBF778838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62488-0F4C-452A-90AC-3599DBBE1E9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C69D3-5C36-4076-BAD1-6D0B4C96DC6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F81C8-CF1A-4452-9EB1-8DAD9C68A10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BF466-3BD5-4078-981D-02D95ED467D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958AC-4B3A-470D-AEEC-650988B799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DE-0F23-4E3B-8CC3-82C3972188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96F61-3546-4BFD-93AF-CEEEFD4CF30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53603-EC8E-47D6-B886-7D6CEDC460E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2EE57-7266-4A10-BF65-4A9F5D087A4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075FF8-C469-48DE-8374-3353D85BB8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CDD25-66EE-41A7-8D2F-0956C7597C8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B39AD-2015-4D40-A95E-9EDCDAE4D82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81C15-1C71-4742-94F8-71D885CE92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F160C-B613-4132-BD22-8D516FC3D5A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7DF11E-7404-4781-A092-8D7E9B8B8E5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A237E-97D3-4A62-8207-90527759C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A5EF-588F-4BA6-B9B3-15C706C1B9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E73-827E-4829-8A55-A4C28530314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71C34-2BC6-4206-B335-48A82909418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4F63F-0483-4840-9DCF-E19408FDD01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BA6C6-15E3-412F-A0DC-34F0E782704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AB765-F91C-414A-86B3-B33CF3758F7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4FA24-A0B2-4DAF-A8B4-A3653935E70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0B463-B540-491A-A6A7-27B4B48A64B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8F8A7-3CF0-421C-ABF3-E622A9390F8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E7BDC-606E-4D41-9142-8EC76EB1225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D9FA5-E0BD-4AB1-8361-D5A0FD2735E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EDAD5-9339-42B7-820E-716CD434E1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F0E-C37F-4758-9135-7EBE9928DA4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F8A80-FC0F-4B63-A435-EB6D503F561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0636-79BA-4E9F-8314-41B394D5555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FF73-D4DA-4138-9533-E4AB0014ED1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FADD0-A2B4-4970-BABE-6FCF990CFBA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F6A46-3222-4C00-B3F2-FEE84831366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F53FE-A76C-40D7-AD37-68302EBE186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E79A1-8B53-400F-B3C8-B924EF5569E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FB17F-B671-401C-AE96-7E4B4DD328F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E5A6B-EC53-4C1F-B0E4-FEAFD1C5E83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A43E1-5CA4-4BB7-831F-D090EAD1FE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AE7-723B-46C3-8B32-EDC42C9A8DA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FEE0F-232C-48DA-87A7-326F39CE5D3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7D8E3-D385-4751-A840-D5095C06714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5CDD8-4D66-49FC-B229-F03F5A92902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D369A-51F7-4EAB-9178-CF6A421B1E2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8953D-9D73-4E8C-9EDF-6ED6035A097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45340-7398-4A19-8348-D949F596AC8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46A20-42D5-4E20-8738-BDD306D611F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E5222-52D6-4178-A6E8-0766080AF8B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FF3AEE-27B4-4932-AD96-A5850D9CD7E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8008B8-6FD4-4C04-8AB6-D3FA432EF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333-88C1-4B73-A114-10DB745F997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55C18-0EA4-4B6E-84A9-68F0160BF3F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FECCB-BE8D-440D-8F9F-5219C5A00651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2F130F-BE8F-458D-B7BC-9D8A27FC82E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CEB1AF-125B-458F-BE63-6CADD176A38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3754B-B470-4470-8A5A-5E42124F7EC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C0063-A095-4FA6-B5F0-E6A1E8F0E20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2497E-E314-4D8D-AEA5-A4FFA094124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625E5-E9A0-4586-BEBE-C2DA65D526A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B173-94B8-43FF-9414-64906CA793D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07CF4-F09C-4A60-9B46-FB51197CCC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B77-7BCE-471A-A587-CFAE028B0AF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447C0-6A2D-403E-8395-5D7BB119B7B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28730-734B-4EBD-81C3-8009597789D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5E256-5CE3-49A6-B7F0-63FC129834E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2626-6764-445E-AAA0-0C0F4B9E702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CFBFF-0A39-47B6-A33C-0BBD0F90814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11E6-FB91-4129-8DE8-EC5454E8615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EFF3E-626D-4253-A8A4-8D99A10F6B0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1D631-0152-40BD-BAB9-06C5CB5FC83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49CB-2C31-472B-805B-FA5912A7FA6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155EE-DC00-474B-A316-F221BCB88A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C3E-568B-47D4-9AC2-1BE1CF1A91FF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9A9CB4-6F20-4306-9C92-0EE37E8C7EA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8B72F3-F0E9-4931-82D9-5A94578705E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01504-73B9-46F7-A0F2-CE4A11EF236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AC26E4-61B8-450F-B2C0-24526AB673D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B14CB9-7271-44B7-801C-82798D481DC8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24F02-A9DB-468F-A3C0-8A6DFFE3D9D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3957F3-896B-4728-8C5E-737674F26B2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30BAD3-EC97-40A7-8705-FF52C292017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F82FEF-FD10-4257-8554-062009AAAF6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C2E5D4-687E-4434-AED7-9465A9CA09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D5E-F104-4CCA-9261-63C0D7D7432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768B1F-BB29-4A90-8B53-A74C5DDE3ED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C5A000-192E-428C-A55D-E15F918FF7E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AB7184-720B-4C50-B897-DBDD43CC929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DE34D-EE7E-4823-9583-5E33ED29014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D3CA89-3101-4DF2-9351-34319306EDF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E548F4-DB95-49E9-8298-69B53860868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D5D0A-82F7-4386-81F1-44DCFA62000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FAB7F-FBB6-4A16-927C-F07893C4D1C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BC8F54-0CF6-4659-A765-1412E3B4FAA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92066A-5532-4F74-A374-82126FF5E8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B39A8-3B49-4711-B744-C6ABEF4D085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79BC0-49E9-4C5A-833C-8E3F387FEAA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7B857-188F-443E-8A04-DECAAFD1B50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43C22-2900-4581-A963-215CB0B593E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4CDA2-A312-4FF8-9CE6-8E05FFF26B12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C261-864B-4E8D-9006-7B7F80D41CE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77596-20EE-4C74-A995-AB09B18E23F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B806C-F6D2-43F3-8093-995C5FD9E6D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9DB0C-3EB2-4A1D-BA6F-2C876288B00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AF3F9-0567-4F0D-82CD-F72F2F010B0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D3720-12F1-4F2D-8C11-A8E1966DD1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EE88-D47C-4729-932C-BC8DCC70AE8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698B-FF77-42DC-8873-5B9C94E688D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E1400-3A2B-40FD-9D4C-898DDE839AE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9EBA4-D46D-4BE1-955C-7D90ACC9FB2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79E67-42D8-45C9-9DD8-A7C9D7E0A13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E8C3-4D83-409F-B2DB-766F9F252CC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CB6BA-00FE-454E-A881-DE614D31DB5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E60CD-2B25-43EA-A3D0-14EDEB53194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7E2F8-887F-44E4-90F5-848F7D3129C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7B887-D47C-494B-B06E-038D8407DEE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DB531-04E3-46F0-89B6-BD5637625C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5B7DA-FEEE-4850-BC57-B8D16445E4F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714B9-9DFD-4972-8ECD-23B6077A3A0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C11E9-03D7-4B3D-906C-7290730C5D9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ACD6D-D2A0-47C4-A9A0-2F3C460F4E0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93A65-1FF9-4F67-8C90-ED0D786F37C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FECBD-9939-43FB-B2F1-84B26A04D8B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0480B-3BF9-42EA-A157-ACF930325DAB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0A2FC-1502-4DA9-8340-DB0F8D460AA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D46FCA-531F-4D30-9B97-39DD7559049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4D53D-642C-4499-94C0-A9343947E9A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AA16B5-7590-48BC-AE0A-593ACCC8A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03B9-B2A2-4790-B0EC-C8DDB97782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7E89-4FBF-400D-99D0-F5129EACC2D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5EFD8D-255B-408D-A8D2-447F7058999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A9CE8-DBDB-487F-856D-0BC38E728B7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0AD0ED-2A7B-4F4D-8D35-B013A512F53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EC4DD-E8B5-468F-B694-B96EE86ABF0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3C36F7-1248-4198-80B3-28720849783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A9751F-A0BF-4D4E-84D5-A94BA475902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731929-30E6-42A8-BB26-1718777F67C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8A9EE7-C441-4836-9166-880EF5ADF52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CC918-9B8B-4911-B968-99B12646BA6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0D751-262D-47D1-AEC7-BFDC72B4D4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A4FC-6BAF-470E-8632-C0F6E4B2B2D9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EB389-F78D-4633-9273-2FA0573BB07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19B02-04C8-40E6-8E18-80713342BB3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E83EB-D87D-4759-A08E-723D86A2668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9FECC-59D3-4942-8013-4C80B0E4411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5639B-675F-4A66-B8BA-6EAFB485455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8063F-F86D-464B-8872-F0A3B561E78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720E2-FAB0-4BCD-A8DD-3BBA740F6E7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D545-DA57-4E7A-B1D2-85CD4EF2F30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FE8A0-B34C-43C5-9FAD-8A6DD876403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3977E-8897-489B-BDB6-A6A6D5A711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F244-404D-44AC-A36D-30DF9FFE1BF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17D65-A72B-407F-8101-33E6876C150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16D24C-B7D6-45D2-95ED-57558B34A7E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A4FE8D-3A90-4614-9F86-38CB2E3EEA7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F79A17-0C9C-40CF-8055-093303181F0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1A1D43-F876-4097-BB3A-45DF8FF5E12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734A19-E8E7-4B4B-AEEB-C176C525F2A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1AEB05-DFE6-4B4B-8D39-6BAB679C6CCE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374675-91C0-4542-ABF9-F4F608F9C93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79022B-FF09-4888-8CB1-C42907AE5D13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C5D236-E334-4CA1-9CA5-DB9EB4FCD0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E81EE-FD37-4A51-8A75-229EC1FA17F3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A955B1-8461-4DCF-8720-30F42DC6E3F8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E5A106-D41F-4D32-9986-BEB3F4937A9B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E79B02-1E2F-455C-96C7-E0DE28213D1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B48D7-174C-48BB-B75A-BBF9448BBD4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2BDB41-A1F7-4AC1-9C2D-9536980C6DE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53FE83-A668-41EB-85FC-F0BE0069D04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BC1BA-01C7-49C9-99B0-B84A4B88CD1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09587A-FA94-40A9-A6AB-B66B6BC810B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9F045-C2A4-4C8B-A9B6-F75C5E92466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AC633-FC50-4B8C-B3CB-75D0A0C4A9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EBA71-8EB4-4B0D-876C-95981155579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27724-12FA-4BDB-AE84-D3A395704A5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D7E627-79C5-4701-897B-0B5AEC1C178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B73C5B-113E-42CC-868C-EC04BC0413C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22D0C6-AD87-476B-8602-ED9336B2C4C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8614F-C25A-49D0-9CA7-1CA004621D5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0E5F9-9B87-42F3-B15B-13CED2D3F74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3E7DC-B94E-445A-9D02-410FCDAA188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818D0-0FB0-4CDF-AF13-C52E908A334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DA980-408F-403D-96DD-49098B14D87A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4227A-A675-4BE7-BE5F-7E7446D65F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BD8A-A70E-4447-B497-5276A4C2C2C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89B0C-B5B2-42DA-ACB3-3D796552D45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9BA3E-AB0B-4898-ADE1-458AE1056D6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0124-55EA-4404-B622-9D38A1CA23B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391D9-8250-43A3-A41C-702C551A07C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BC776-E197-4523-BE5A-9760F942EAF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D6006-95E2-4434-8786-ED9AD727FD9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4B731-D843-48B2-99D4-6270DF24CF8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2421C7-45EC-41C6-A1ED-24A33C45DBB8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1608EF-4D68-4DC4-B61E-CBA48176882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24A5B4-27A6-4E13-A608-708FFB6472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F4C3-D810-4264-98CD-6A39FBE8BCA4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A024C5-2C0E-4EBA-AF5A-83483B6DD31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8709E7-B8FF-421F-A778-5EC16F61ED4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84CD4D-79E8-4AC2-8F94-EEF0E6F1782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AEA448-839A-4D72-8A3C-C8D1AC936D4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7823BD-F666-46E8-BB67-895E4A96211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76FAE8-C54C-4801-A032-FCB4D645675E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3AAB95-8B6E-4CCF-AEFC-F7AC4D75275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03C940-922E-4AA7-A822-BC275F6533D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F503AD-5594-426C-9A50-D62E5FD26ED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0486F4-982C-4EB1-BB06-8A6FA2067E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BCBD8-1B49-4AC5-852F-7104C4238461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46289A-F977-4893-BAEA-1BB6FF94F3C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EC4C72-7919-418A-8B61-7A8F7DE2396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E5D9B-378C-4226-8E49-79FA2EFCA34D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E38692-BB2F-4CBD-A6FA-2B4118B4231F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E26158-6B56-4734-9122-B3D2DED6F15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24DB29-392D-41FF-936C-4D32499EE8B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DC3B1F-DE36-4A18-A256-1D18702C5C36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75BBE7-4802-4105-914C-EB9514154E3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C149D1-9BEE-4F8B-92ED-59AE6480651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5166EE-5CC0-4967-A74F-8127AA3165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524E1-29FC-4D2F-BEE6-101F81D079B0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72DACD-3B0F-44EE-8BEB-4B46B20B46D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F3209-09A8-4F65-9E47-BDBB8FCC080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70B17-DF47-45B5-BF79-E61C2F1A045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758B9-07F4-433C-87AC-D043BE5E9A7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245AE-2811-4EBB-89D5-12F1CD04B40F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6C8C7-3FBA-4A38-AA0E-23D37EE18524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4098A-F68F-40D0-852D-A1FC2CE88B1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2E081-5EEF-44BF-BD56-0AE50803B61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9D94C-70B9-432F-85C9-8225064FD3E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D405F-3061-42E3-A574-AD0DFD51B3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C681-2736-47D7-9E48-E3F20D8D5AD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DDE0D-8C98-4023-87EA-DAF91668617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C52F2-0BCC-42FD-841C-0E838AD3BD44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C8B7B-8E9D-4874-8154-2824F650D96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9256C7-F8DC-45C9-B48E-07F103BFBAD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D477AB-9356-4891-9CF0-EAC2C77F982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8456EE-2365-4E71-A2FD-BFBD7E31168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A0439A-90C1-4CFA-BCC3-EC41135A0C9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A504FE-C0F8-4AB7-8274-EE7C25C4A7C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3F4F75-8FF6-47BE-8EDA-4A3930FC848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C9D320-2A8C-4232-AA23-90B78A72A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61B4-DC67-4016-B1F4-5CF8255B91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9DAD9-FFA5-4216-AE8F-3BB824C04C4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46524A-24FA-4951-B657-990FB3E3B55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D7D4B9-0FF1-4355-B67F-9DBECCC5810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E70B8A-9EC3-4BBA-832B-BA0F5C621E9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60A85F-3B11-4211-8C51-8F277160C0B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AA4028-A4EA-4A9D-8E26-A13B143C109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A13E56-6D4E-4BF4-8DF6-16F1B2B838D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FB7526-6B61-4227-8920-CA03D471F33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C6F4E9-BCAC-4763-B168-04FDF74BD55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E1FEC9-86B2-4AD5-93FC-94C26D29BDD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6F039F-68A4-4DA8-A315-D118D495DF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B3886-EB49-41D6-BE9C-A4483F8E57DB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C1787D-7AEC-4B26-8F29-43BBAF23950C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048114-125E-4502-A9AC-BF7BF0B6329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9F953B-A25F-4641-8917-9DAFF3F6210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936871-0A68-443F-9CDF-A1E90081CBE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267944-F892-409E-96FA-E2F2D392864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8D25EC-FA6A-411D-AF60-305BF365E51B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11D8B8-152B-4E28-A115-20778D47AA9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900E3-D985-41A9-8E28-A3827C473975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4DD35-C478-43DC-A3F6-0684A7CFC59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C1408-740E-444A-B0C8-C4BD96693A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5503-2B59-4730-9463-FA6B4D08D9F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DE27E-B837-42BB-90E4-07AD5959BCA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B11CA-368A-462A-986F-1F73849ED2C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0B7FC-7159-4912-BA1E-E8593544892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2351F-45AE-4BE2-B230-ADDBCCDEDB7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7758B-54EB-4A50-8608-A3FFC80CF9D5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62561-71F7-4AC5-A6E3-A3F93ED0E016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5355F-D95C-428B-A724-3E7B6D1BB40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7018B-F53F-4526-8025-D817647DBF29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3A287-4999-4805-8876-DBD63EA1D700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823BF3-F1F6-4CA6-89D3-B30EBDC679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2BE80-63C8-4EDE-BD20-3019AE1EA3C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0729A5-1457-45DB-BBA1-06AFA324AF96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B8A174-9BAA-4F4F-990D-56F023F2BE0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06A679-B837-4EB5-A743-15E2DCA0655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926BB7-F416-4EE3-9179-A96AD32ED9CD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F70FDA-B24C-4EA6-B4CD-D837425CA3D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23B1FF-FB27-4E46-9E84-F06BD3B580A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E56456-B5F3-4B4C-B172-46FE3B109AD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3961BB-7887-4A70-9088-7E0DBE73AB5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B0FE51-90BF-42A1-9CC9-B9098B04F65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875208-F466-489A-9E46-BF273304B4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76C0D-837E-4E3D-B612-6B7BC9E685C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00B410-8B34-49E2-B177-D7BF69E9D0B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8787FC-14D9-47E1-BB53-C52AD34358A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EB30FE-658C-4022-B2C7-9CBA81A53CA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0C796B-2DC5-4EE2-803A-0B67DB2C279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7F19CA-F73F-485E-95AE-727778E8DD5B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07C4A6-E782-48D2-8019-98E6D9A0F0C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44C7DC-FF96-4EAA-98B0-1585C24D16D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26A5E0-0D15-4391-B1A0-3064F2859ED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DA5B28-D7FC-4FDC-AADD-4748BB8BD69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790638-C57A-49EB-B0C8-E27A96D56E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189EC-1DB3-4CA1-BF04-68945E42245B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8E3FEF-BDA3-432F-AEDF-520AB407132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AFC3A0-770A-4BDC-8357-93426F92C21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FD79F3-8248-4AC8-B924-BA7E53B965D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1BFD4-C96B-4C0E-BCFB-E4A7F9699B5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37739-C245-43DF-A06A-FB7693EFD6E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F5053-7AE1-4B34-A460-6B59E50404C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EBE12-98B1-4F4C-BCCB-1C4031E405A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45237-3F67-48CF-9709-765CB9DF043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F34DA-E2FA-4F6C-98F0-792B5F8CD40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3D73C-32FF-4E9E-A2A2-31D8DBE680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3222B-BC8A-43EF-A175-FA9682CA4845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DF839-7F4D-4953-99F1-52B33A2FB18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74356-BDC9-492A-9903-E57AA360C2F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6E43B-F4AE-4094-816F-664F7D90E15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3C25E-C692-4F4B-A985-DAE8C3ACB5B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5E2E0-F495-46FA-B4E3-01D8709D247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F2B5EF-5A0E-4A35-91B0-F651A850C08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62841B-E81A-4FDE-8C67-651200AFEA0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249D3A-8425-4A72-BB73-7D198014028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B78E0F-9EF2-4FAE-9677-E31F39ACFD5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FC6C79-FA74-4BAA-9FE2-EBC94556FAD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1331E-2EAC-41C6-BF0E-865E93CAAA07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1D344D-17CB-481E-BF25-F78F7C26D36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7EA1F4-2BA4-46EF-B1F9-46EE8309618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43DA09-8D5A-4340-A07E-C47E4675071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E352BB-BB1C-4274-B37E-E9CB626F154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D1EC6F-47BA-4FAD-9188-ABE5AEBD103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4CAE09-6C29-40D5-82A1-190EC75FED7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CA6D8F-D459-4F23-B672-5080FD4C4E0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D6207E-966B-422F-B075-F798DFEB671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7D9211-A8FF-452C-B095-FDB751CDB19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E05830-13B7-484E-85A3-004A7DF24C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9CF4-4DEE-4BB0-A3BF-577EDADE5CBA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0505FC-324B-4E5E-AD5A-7CC4A3D250E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1575BA-76CF-4936-B45D-99BEB858CC00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9C0CC6-1DF3-4917-ADB9-212CC0E86C7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25654F-A287-4107-AAFB-5944320B1CFA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41A07B-25B7-4107-B96E-A619E5BCD4B5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5FCC0D-831B-4B83-A328-81D4599E592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82D43C-84FD-4DA7-887B-50F5A156EAE4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49F734-2F68-4F00-AD0B-8CE3EE2D69C1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8CE014-03D0-4122-9C18-1998919B06D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6E9E4-5F45-41BF-AB0B-D88714EEAA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FA1DF-507F-4ECA-ACF2-7C6D709630EE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43D03-772E-496B-820C-3B919352E7E9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6E525-825A-45F2-B450-F05F31DC9D9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B621F-E451-4ABF-94F9-CAA4C021DEF9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BED71-8E75-46DC-864C-106AC0A21D2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008A3-A74D-4B52-99A5-ECC05D8A955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B005F-195D-41CA-9F97-A311DA32D35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34963-FFAA-425B-8A2E-2CB03491972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14D9E-C380-478D-A22C-0E9DBC4117D6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375E8-C741-42F0-9596-6B14B921703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2DDFC-ACA4-4C6D-AD51-BD8650826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7461-BA32-457B-9395-0909828948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608F1-0C1E-4333-BCCD-22FEAFAC059F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1D104-3FDB-48E3-8FDE-A3ED8E51B987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40DECD-FFF4-4F41-8383-78EB7CD2685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8B0D30-3A0E-44ED-A659-0F248949F7B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B57ED4-ADEA-430D-BD36-933DF963445C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3A77B1-7B8C-4709-98AD-BFF3C420E0F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EF12E-1A90-4768-9A14-98DA1148132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036610-A351-42F0-B4FA-39067CD3173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74012A-6A0B-4D39-B5F3-44EC54078A9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C0BBEC-8F55-4126-A7EA-449578102AA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2806DF-39E9-4674-A896-B190076FCE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B09C-95C0-4DF7-B503-EEEB96FA14F2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7AAE9C-E8DF-4CA1-A7A7-40704BB7E3C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EA537B-1B0A-40A8-8C26-9D47B52C3803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32292D-944D-4B01-AE85-25DDEF78F20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AC5CFD-F591-4C85-A4B8-B523DF292CE4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FBBA4D-FB43-445E-B90A-97568F9EAA82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715933-C111-4830-9374-4DE675A9E50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C2A037-76B0-4820-9DF7-7001C716E47F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6766D8-5144-419A-84DC-E53FE617D132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58992D-B824-46E6-BD2E-E16B16D6B6B4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37F0C4-AC2B-4E34-BA49-F9D5677C95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24B-8F8C-4886-A67D-40018E1C61C0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D31C47-BBE9-473B-8DD3-FC036863D71D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95D66A-F6FC-4692-800B-8107BC06BCDF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C2AFCF-4B5B-430A-AD74-CEE69798801F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F75B5B-B467-4A72-AA79-F3FD141DECB2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177EA5-6C2F-488A-932F-CE7821526ED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AB61F-D48E-4742-BFAD-B6B661033614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679AF-38F2-437A-A97C-D2A6230DE0C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ABB17-4DD6-4461-B448-5CD46EE8BE0F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F9417-624E-4A1C-9449-F1289BFD2FF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2DED2-FEA3-40B9-AFC7-0A1C903407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D3E-303B-44AF-9322-5DFEFCF4EFCC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91221-41B0-44F7-8987-55B99B29BE1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C3B4E-A7FC-425D-AE5A-06CCCC3280F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C4CD9-BDB2-4A16-B0A4-B55450AD7AE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FA64C-3AE4-41DF-8262-2387BF7D0FD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6B526-54E4-423B-BC0E-1A10F90AEF9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43E15-25B6-41CE-9A06-9C6A6F45623D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F7CAF-46DE-418E-B6CD-EE66E785E36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F02CE3-6C50-4347-8731-B103344FFA7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958405-5136-4CCB-A6FD-5000819D994D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944AF4-224C-44F2-BC1C-E4292DA8E8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3C0-6850-460E-8407-5929E03D907E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850844-4135-43C0-BB33-F9FAA064F507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A1E9AA-143B-4B01-9409-46204AB4841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78E880-4EEC-4FB7-93D6-99B8BDB1D74F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1CA27E-B129-490F-B991-60F0CFF012F7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DCB4E2-2891-46DA-B8F5-33966F7BD04B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C0902C-893C-4B1D-BBE3-59902B5AA22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37EAD8-5658-4F37-B5A4-BA3932D4C476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93682E-21D6-4145-9E02-76F56A1493E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9489B4-1D82-4380-B3F8-FE3F6653B678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7228C8-8BBB-418F-9AFC-BAB439FE18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65A1-DA82-40F8-AD9B-466FEF960874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FE81DE-975E-4423-B401-4A35C1CF0E6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8FA857-947C-40BD-90B2-98F8824F12E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312774-C78C-4212-BD50-9736C72BB383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18B8AB-3F1B-4E94-A90A-8E08ACF4CBAF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4DBC17-3477-43E7-B839-4FF0ADA3A99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C6C97D-ACE0-484C-9A77-370A8FB1C42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3C19E0-81A3-4E6B-90B4-82C432AAFAD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1E574F-3D54-4D83-83DE-480991A22E6B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B93CB6-6E4D-45E5-907E-7E37FE475CD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2D5E05-5ABC-4B68-AB80-B69CEB8FD2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A2D9-CBA6-4C5E-952F-B3DFD1B03C0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5442FE-94B5-4468-AB85-13064F0D60F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DECD9-2663-452B-88D5-AC9A46318C4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C7162-3CD7-4E24-A0D9-7BFD1E06E92B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F543E-B59D-45C5-92A7-2BA0A24FF436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6C9E3-F9D6-4F25-939A-C2EB04E465F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556FD-A71F-4CC6-A1E8-5263CC52D9A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0F372-97FF-46FF-A75C-3B2A891D611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AFE8E-9B92-4399-AA32-89580678E5F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BED7C-4EFC-49C6-B152-5CABF9AE9D7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34A0E-F00F-45C3-9B15-94E100F9DA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F2A8-FAA7-4508-AA7A-22CD2802B94D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C8A43-30F5-489B-B7EA-55033787E2D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31328-8593-4FCA-BAD0-FD1A1668504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3EE3B-3858-4780-BBAE-DBF5F90DB26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43D928-1ABF-449F-ADAC-8C7FF440FABD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BDF0BD-C596-4C85-9F00-598EA48A3AB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6EC0FF-7FAE-4467-88F1-AB550394F11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62A5E7-12DF-4E72-8460-698E4AE185A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6A4D3A-B3A9-4E40-8686-86E1EF198BF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530A30-390B-4432-BF58-E3176EDE14C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8D3CEC-DA09-4A92-8B2D-208C945D74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83C-C7E8-4DA7-AF7F-6B6E085C7A95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9F3767-759A-4025-AB01-53208EA864A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EF3756-4D51-4899-8C31-1B9B1DB440A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BC0474-EC40-4BFA-8FA7-3BC58D30D97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43F50F-C6CB-4627-9433-3D1E0CAA1F6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895C96-3234-4B2C-AB34-0F5A2C71FCD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68F8BD-64B4-4005-98EA-1BD8C76963E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5DC3D7-09C4-476B-B32D-1231274C894F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E4219C-FCF4-4DD1-894D-A159FD8EBFA6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A43CA0-30A0-4D6D-92EF-258A1A1E5B28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E4DEA3-0426-400E-B71C-25CB6A94D7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957F-E571-4084-A9E5-4CA7553E1989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221BA4C-12D9-402B-8BDC-E38B0FD9825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CD0AF8-7CFF-4768-8C45-0F69B34C213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A63F99-0964-4CCF-8138-950F6D844F4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B046E8-E10B-40B7-A27B-97247805ADFF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E9E263-95C2-44A9-A5C4-1C0FC9E2D012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653121-16DE-4AF8-97D7-3A199CCCAE7C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17C3A4-DC1E-445D-9778-F8758F59D10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07460-9CC4-4142-957A-0A59E032B57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6A057-0062-416D-83F0-C9596BF1CD3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3688B-E1D2-4EB2-BE6D-6C7C869FC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556C-5CC2-424E-9F56-9B5831D0D5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6202-3CBA-4A6E-8001-7D316EE17771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63AAD-AC82-42F7-BB86-DE8791F1BA5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DF447-B87F-48DC-B8BD-F4ED1BF6EBA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0DF2C-FD29-4B37-B488-4A947B19665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F8F5D-27E4-4A60-A0FC-D9A22DAAEF9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5B7F7-3059-46E3-B93B-E6DE09DA48D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3A538-FA12-456B-990B-12BDC827FA9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442E4-65CF-47E9-A2E2-954516DC6021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03142-7819-4F1F-A679-6F64A4A5051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3835B-DE4D-453F-B979-B1E8AEF0C87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118BB7-6117-4823-9A51-B7176DC892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97AD-8DDE-4662-AED5-1BB704672F03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34ECF9-F5AC-44B9-84DE-25EC13E9F252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5272A0-B0C3-4EE0-A458-4FD8363BCA8B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FA6D01-C0F8-4AB9-985B-B178F95F3557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5916ECD-BF5A-42FE-A6D2-1F46B2C6700A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09D015-4FB3-4C7F-939D-25DAD81A890D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DAB6DC-C84C-4410-BB72-1267A210E60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8CC6D7-EE9C-446C-BC47-2C92832E638E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B07872-C5F9-48E6-AE66-8F5273BB218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FA95EF-D075-4DF6-9F9C-A0035F024B81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AC8C9B-6CAA-48D3-947C-531CDAE5D9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17C-8978-4445-908D-3F7CF2729DD2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ED72ED-3F0A-4F00-97FF-EEFD7D87BCB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230AAE-EA2A-4077-8346-00E7B13D79C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68FD11-DD46-4C08-9F06-69AD2681492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563BF6-CC99-4E9A-B120-95F18877370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0851EE-C557-4485-A32F-2F028965DE53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C896D0-710B-488F-A288-B84E7EF5CC8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DA109D-978A-4A48-9888-5D81BA1AD10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DF65E1-BA6F-4905-8723-A4B45AF493B0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0D5B26-BEAB-44D1-BE98-F2B2B57B7784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24BBE7-9977-4357-8E3E-37EFFD7F44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D0735-A739-478C-9829-72A622AA59D4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E63C85-C3E9-4A11-9DE3-3ED969DA57E9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86B2D3-0E1B-4E07-B093-40760723C46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EF6A9C-7DC4-431C-A061-89904DF07148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72C52-5D1A-48EE-A70A-73F6A2736EB0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3EF06-C35A-4EBF-B5AA-108FED17D13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969D3-9540-41E9-9EA9-D6743B88B976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7E2F5-31EE-416C-A521-158C676A6561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D816E-7260-466E-98A6-F2EA925DA941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A49C2-0BA9-4498-B41D-B22B61E79B2A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AEE70-8EE4-4683-BD89-8D7986E54E3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A28BD-F77F-4CFB-8811-DE516D1F9712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49EB4-B56A-425B-93F4-B59BD959D35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82ACA-4F66-454D-AF37-F2501D312F3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A269B-364B-411E-919A-D86FE80AF145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60FBD-14CD-4919-8B39-9A738FB23E4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4292B-6711-432A-9C8C-EF758276BC82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9E4D14-D071-4204-8B8F-82B72D170739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1A4DE6-E80A-41B8-AB24-94DC57720B52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0195A1-E8AF-4643-9826-67002E5BF27E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7535E6-451A-4779-9EFB-AE6BFFCC49A5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45A0250-79BB-4F44-8777-6A1F662633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520F9-24A1-4953-8BFA-5A3A83955ACA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B639361-1894-43C3-921C-9391442BA813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269734-3AC8-4B7A-A587-A95AC7A6FBCC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C7000A-5C35-4FE3-BA3E-6E8264308A10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BD4859-3C80-4FA7-8858-C0C3CB8F9C6A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22A6CC-9B95-4246-8C1E-18F7D07C975E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428C25-8259-4BB6-82D6-19A16662A511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F7F57C8-2905-472E-AE24-B9037BD51F00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C25C19-C845-4BE5-B1C2-211D61E98ACB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7FB7DA-9A28-4470-B274-109510D90BBE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64087F-EF30-4DE5-B775-4227DBA311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B870C-AC44-4B11-98D8-82DC0EFB7486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A26058-0AE6-4760-859B-F2A20358F4B9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72019E-5DD9-4BD2-A461-A0AEA3A34488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BB358B-F033-4BBA-9DA6-684DA2ECC813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A86C82-22C4-4384-B742-A21E6778BBDA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A9352BA-56A6-4FE4-B5DB-742707F127F2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A391FE-85BA-4472-B9C8-BFFCC0E6BE99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DE743F-2B48-4EBE-8206-AC3E4C29C2E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2C2C23-54FE-4443-8DA4-9C963CED849A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DE26B6-ECB3-456B-BA24-B30231E2578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DCFCD-4766-447C-A7CD-BE9B4F8400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163EF-CD0F-41E9-8DB4-0566DFF8F7CC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D24A2-DD3C-483C-97D6-A2ABB1E5E3E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C28FB-F094-4591-801B-2CAFF48C85B1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BE713-14FB-43D1-91D8-F4C2EDE2B31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08DD6-AAB2-4312-AACA-3469CE9B9224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50912-4BD9-4D0E-83C8-D465BB597DC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D7B43-24E5-4D52-AE69-341538AC3C4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9B22B-C7F3-4954-9317-17E9F235C2D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7260F-205D-4522-8E1C-48D45E045A8D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92381-C8C3-4367-803C-9F810523300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25B4C-A4D2-4283-A39A-661DEE837A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B859D-3DBA-44D7-BFAA-7DF8CE410CA1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54494-474E-4A5F-8B75-AB18B442102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AB0AB2-350F-4D8C-8C26-DB1BA70362C4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4BB90AD-8147-4E7B-84CB-151AEF4284B6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0483C5-B5D8-4DBD-9F88-C7C257545044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BEB486-BD28-4165-A2C0-4B3BB40B786F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D966A2-49EA-494B-A91A-00B1447D016D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FDC033-AD48-4104-880E-1F1EE00B76D0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D9415B-9660-4903-A32C-A2EFDC4AFB3A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8A73BD-436A-451E-B9A4-C64DDAFA3633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AFF437-25F4-482B-9252-A3940A26F9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65E8E-C3A7-4A2B-91A3-6B3A3BB4AEA9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7FBD86-BCD7-4808-B0BF-FBC3426CE202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26C567-8231-4813-9105-5B00716A179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0487A6-FD19-4F28-9726-D66DCDD90AE6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A4CF0E-0051-4668-AB28-E62DC6328933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4BA009-BBF0-48E2-95D1-E2EC2550A01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02CBBC-0DC4-447A-A856-371EA9E02D37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DDB61B-5BCD-4D07-9445-69E5060B754E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978431-28C8-409A-8BA5-86FB5C6CEE4B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294593-D2B2-44BB-9585-1EF25459CFB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3E91F5-3F8F-4740-B7FD-67617C598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3477-23DB-4267-816C-1C58EE8612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A996B-00C8-4953-8E5C-B462DB3BC796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3D3D66-A42C-4DD6-85D0-1EE6630481D0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3DF59B-5D98-4A2C-AFC0-C1869C581E6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4693E9-E642-4EE4-87D3-E648C5BBCEF0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D25837-E368-4014-A599-616FB1AD378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F3058E-848B-4BA5-8C21-1CB1DA9263A3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263644-F9FB-4C8D-8918-17047987DF29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F4124-4B36-4536-BE83-1F9A6BEECBF7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EC753-DBC4-460D-BDAF-AB2756BA3A3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3EAD9-DAC5-4D6F-98DC-601D8BFF3198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B3E013-8B03-4377-A49F-AD92F0CC68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0EB3C-9723-4739-8BE0-5AB9EBBB5F70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42ACD-6F87-4F6B-96AB-71DFE6E0EADB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4ED81-06AC-4119-BAF9-2BAFB7D77AC3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C1DFD-1353-49DB-81F4-8B59C53ADB89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E2D8F-5E3A-4504-8D61-D584B82D20BD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27528-0DCF-4CBB-A131-6513D972805F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9FA818-65FF-4F57-80F7-4FF0D5037B1A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04C6AE-9B3D-4D9A-B82F-D00794120744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43E127-0275-4196-A2FA-61EA1212D559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76AA51-0485-43B8-AE65-E0E33E8B06ED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C75EB4C-71CC-4B4D-9BF0-12677CB0F0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413CE-4E0A-4A3A-9836-E9152B0E99A0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E6EA59-C17B-4E14-8A3E-7B77156092A0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3D9B73F-80BF-4EE1-A27B-9F6D5B258F88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DE3459-8037-4FBA-BE34-256643E37FC7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2F8EA6-E5F8-4FAF-9079-4341A06377FB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207B8E-6FF8-42FA-ABFE-487487573B1B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FD73A8-CCA1-4632-9CDA-7734B8ABA16A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6D3247-632D-47A1-9C71-C0624E16596E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D17035-5F64-4560-B2CA-F551B1C019D9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86D294-DA5A-4D6F-9B29-D7CD3677CA9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744325-0C23-4178-86B3-759C1F90D9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88E11-5E91-4528-8D6F-124D0F61E6CA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F714E2-27B7-4AB0-8634-42624DAA3152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7643A5-4E4C-4473-938C-2E120EFFC42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930F16-0E61-4E02-9127-96033CD608C3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E32D1B-E8FF-4745-9A06-7BE4B6A94580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C623A3-9E04-4FD1-A05C-2A7DB5396592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F6D4977-A022-40B7-AE4C-6603A57F16E0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A4393F-0515-4C35-92CB-7EDF678453AC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5B81C2-2515-4CE7-AC77-A45E8D422A81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CFB3B0-8501-478A-AF5C-A4ED3AADBACA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DBF539-EC32-4EA6-8760-5912F1673B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20E00-FB20-413A-8D4C-20DAAEDBBD12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7446E9-FE28-4AAF-B631-003EFDEF1444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DBF6B8-DA3C-48D7-9A48-057768F465CB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F37B9-EE49-4773-B008-4C487FB29E28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C3619-ED67-40C0-9F65-2036E0976068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51C976-E853-44CA-B3E3-7B2F983915A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957CA-2FE5-4D18-AFE8-A233192F4AB3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1D9E48-5160-4413-A743-B71973836646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CA470C-2D56-4342-861A-A85E3E90C43A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40A41-328C-4477-BCC2-B557048BCEA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D3FECF-E4AE-4549-9C97-767D9058FA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83A6F-C2EB-4940-AA7B-47F738607E78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97493-A37A-4328-A3A9-F37F1BF0D9A1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17A4BD-1007-42A9-9978-B26AD8EDA91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F6848-EB8B-422B-86A5-9A366DC6B8AE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366223-A8B2-4C7C-BB26-099562B1A606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422997-9FBE-4FF5-ACCD-A5F9925707E7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24BFAA1-9D90-41B1-8710-DB7CF8274AE4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06B266-882A-4932-8506-CC431EDD17D1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0ED4E3-BEA0-4F69-9D0F-8BEB1BD84395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A0BEA1-AC80-43A5-87FB-64006606B31E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D7AD1C-6265-460E-B5A6-948772E702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AF76C-26A4-4B27-B513-F3C6ABB1E8C1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495F7A-8AC9-4061-9FB9-C8B46F797663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A42409-8ADF-4F02-A6EC-03D3F73EC0B0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09A7BCC-84B4-4938-AECC-567D765C8663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3C34207-0875-4E3B-8F1D-B73326848858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D91A287-B059-4411-B3E3-FDB1F60F8EC4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793373-0D8D-4DA0-9828-A3ED0780E722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EDF8E8-3FF9-47D5-BFFF-1A44659DEC7B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4676D5-EB56-476A-B71C-42EA70C013CA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294FEB-7DE5-4164-A3FD-7CD023FE9A95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ABF39F-351B-433B-999D-510E4674E9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0B703-1CAD-4A4A-A9D0-A154169DC410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F4503C-7CCA-4CB3-970F-36C4D3CBC986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C9F57E-9E10-4295-AB0F-0741174FD7E1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9A4C1B-872D-41A3-9D60-4A1B72173837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7BDB4D-87A6-48AA-83AF-DEBFC112557B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1D84C1-CADC-4484-8255-A5575EDC23A5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FF6630-C2F6-48F2-B883-73AF54AF75E5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9D8836-C30D-4BDD-9EC6-834CB6C6A509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298DCF-9DA7-4EBD-AE1D-2A07FBDA664B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72AF0E-07C2-4838-B926-A4730F775E37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29598F-CA47-4F98-9A12-59A4E10C6C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FCC27-8BCB-4057-961D-690B3A5000DC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6F6BA-2424-4A17-9D95-4B3EC2D664AA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691572-A57D-46C9-96EA-B44F7794F20F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7D14BC-2027-4ED6-8DDE-0CA2E77CFAD7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3982B4-E091-4908-9140-906AB2F8FD67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813BA5-C545-4036-90EE-24021C22274C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5851F5-D645-4B7E-BFF1-A1C3A1BBCA5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C43568-0DE9-4D7A-8C0D-C89F2C9672FA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DD184-C19E-4156-92EC-66A157218292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F14644-0F38-46C4-B9F5-36B66A358145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DEC765-431A-45A4-8DDA-0FA3EBDA1E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7B5EB-2DD4-460B-BAAD-42618AE7D1DF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C58E3D-30BA-435B-AC85-DA87081C4B2D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E6B12B6-4692-4E7A-851E-482DF18124BE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6567F8-B342-4A04-B32B-998B404DC1D6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418F2C-E729-4638-A314-A6174FD5E30A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91B9F7-4161-4E54-8C39-F84283AACEE9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7D4694-CAD1-4E84-A08B-BFA13A71B292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692240D-09B2-4460-9153-C29968371C50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44E90E4-0341-48AF-AC84-61B49995BC76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611360-A4A8-4868-B7F3-21DF479CE864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15517F-16B7-4684-8BCC-F74FC4EA3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B835-9943-4F2F-B656-C8C74E154B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81389-C827-4005-9C75-BDB14C3F44D3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016033-E773-4FF7-A580-6A4C6C4F7D09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4BEADD-1DED-4644-93DB-5CE4384AA14D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C9BE57-77B9-4F68-A93E-22BBC5C0C717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B43B59F-3E29-4260-957E-A6AFA241E0C2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FAF4F55-482D-416B-A0E2-D7A99135B7B3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7EC4B4-8052-4DE5-A135-053E86A6902F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3E44EE-D2A7-40B5-9BF1-8A50B91A519B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497216-96AC-482B-90FB-CC59F16409CA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D9C4373-975D-46D7-A015-98191716D9F2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1A479D-DE5E-4116-8149-7337D8C6E9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C0D4A-8BFD-4C0A-B010-5209D45A946F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B96BEC-1F74-4BA9-A5A7-17AC700D6998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72A7980-06E3-4DC3-B0EE-CDEE69F858DE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570B2E-BB1B-4A0E-8D66-CA2940EB569A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413C1C-D378-49ED-964C-9665007310CF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5FD4B5-B75F-43D3-AD2D-84521D818F3F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F4FEAF-AC0F-4E0D-AAA1-2F8C08272962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F9339C-E78F-4C96-A10E-8E8D897102C1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9791A2-A43E-4C4D-A230-DAEF46893962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F1D43-2304-469F-A8E3-218EF145EE23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B1DADC-AA8E-4BE6-9469-298E9778F1A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1620C-A1B9-41A1-85F4-AE9835E44BAA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4C3017-5B65-475F-9EF8-DE27D5C50222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97C4CA-AEAC-45D0-931A-A3F5DC35D085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6EA737-3213-47E3-B1B8-6AB9837572F5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670F76-0C51-4605-BE3F-E0DFCAEF54C0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809556-844A-4EB6-967C-C16C56634384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F8EB21-E016-4DC7-B288-577F3834F652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3DD3E0-EAF5-42E0-A6B1-DA7B0244AFD8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1F439D-BA82-4166-A0E6-6A9A087E5A8D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64ADE4-A83D-440A-A628-A9F9F3C63ECB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814B1B-13BC-41A9-A2BE-036C452017E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89172-3CF5-445A-8D4B-01047C347AD0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7E055B-C4D6-4296-9CE7-2619C4904A82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76C6DF-49CA-46E7-B4A9-96F5AF559A8A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621184-713C-425A-8102-9D4EF091E5C6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16CED76-5B4D-4B2F-92E1-5EF3A082B39D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8544BA-5C42-4AB5-878D-4CED695AEFF5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E734551-C501-4A4B-BA9B-6CDEFE776E31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624F26-08CC-45A1-86BC-2E885E1D1BE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06635A-2FB3-408F-8585-D767CDBD5A2F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D87E71-91AC-4C04-9D8B-D1A502899BFA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1A2503-35F0-4A30-BC7E-911DB76F82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D23A2-DE04-4948-B25B-A2A5B06E5211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754EF4-9536-474B-9228-6402C3495D20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E472AE1-AB94-4979-B7E2-C43A8A9831D0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59BF59-EB89-4703-A1AB-A64B2DE08F63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5212A2-D622-4279-B34D-5B90C6A9FE93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8AEB08A-3809-4EA2-9DB0-04CFCF294650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19B7827-2927-4F18-8FFB-DF927C6F7420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44588C-CBB3-41A9-9892-04113F455D79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EC79DC0-F21B-4F3B-AD1F-55DA8F859605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82C1547-DB00-4DBE-B52C-C54F5EDF0975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27C900-F732-4363-80CA-3958A65E64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3CCF6-7879-4BA5-A90C-8E7C5551CE71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0CF2BE-064B-4EEC-83A9-B7ECAF5D8A20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BB50B7-4369-47D1-84DD-0B6BDDCB5419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7D511-4C91-45EA-8716-3FE95C60D99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739164-F2C7-4FE9-87A4-AB26C9BEC40F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4D29B4-03D8-423C-87D6-AC06791B93A0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0D02D-1FBD-46F2-B3ED-4BB59AC06EBF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92D50-99F0-43FB-BFE6-A952E6A24572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B589C5-E269-45F6-A90A-587AD3782EB6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0F1531-2C01-4162-BE28-AFDADEA6B605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C720A-E93B-470D-9C3B-7FB9B5F9C1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6C43E-DBE9-4A50-A8C6-7E2E185947C5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A2F05B-FC7B-4524-A64E-E14217129053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471F76-143D-4992-9368-9468CF2CF444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959DB74-98F3-42DA-B55C-55C96DAF49F9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9FE1E1-A6A4-4F36-BBDA-84EED55B6634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7C5DC2-80B2-40A7-8A65-6B3BC54836DA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EC2AF7-D46C-4D5D-9E20-F1E9344D55CE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B076C7-6C78-40D6-BAFE-E04EE99BFF22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AD11B1-8A83-4C9D-A085-29CBF370C129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2892AF-4004-4A56-A778-FD60D3FB3AF1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8B01AE-2467-45D8-BDCA-9B2FCD469B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F1E6-FCC0-4154-B287-FDB648BA7DC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5C1666-D265-4F85-AAC9-3539B4561820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4C1A000-32A9-44E5-891E-DEE3C5D43D46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6E5058-CC93-451E-9F1C-ADA5A53EBBB9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5DEAFA0-A8BC-4FF8-B4A4-1E515679C3C0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A71DB6-2F4D-439E-A3F9-C658007B5FD3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5C514A3-ECD3-4972-A533-3C6D6B36A964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E4AAD23-6DF7-49DD-B8EB-F029BA17F963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FA10883-3FA5-4528-8442-5CB8BF55B2E2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D667CC5-63E6-41FB-BF97-D7C48D484DFA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3475BE-3AA3-4D9F-A5BC-F162F17138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0267-297D-4A8E-9A3A-42F36492BF8A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496ED18-8A28-4AD8-B790-B8147432CE75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A7C1F5-3F6F-42DB-BEC9-2C928E05E1F3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692B8A-3FFE-4B13-B855-150FA4AE03B9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DD10C5-9753-43E1-8923-9C5D6314729F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976B668-84C2-480C-B094-91463A7E240F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7EF8D9-23CD-49D7-9BBC-35C8852D194D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16ABA6-1A14-47B7-A17D-5556654E50A9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8CE8F2-07FE-4B08-9B91-967453631F63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91A88E-0252-415E-92D1-D4C1DCCAFA5D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2D028B-C619-420E-9C80-E700C07DC0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08AB-E8A5-4860-9C16-D59715C34A57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5A6C09-4EA8-4308-8F2B-72B5DCCE43BB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E946BF-354C-4345-834B-BB897CB6E523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B77139-1488-4DCB-9ACE-AA71F1D4FDF4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2681D3-7A1F-4744-9367-1D991AFBB171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D90A16-94B3-400F-872D-857E4A089756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1D1F1D-B5F4-472B-B26F-37FEBF6691AC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EB070-A490-4690-8AC3-03F7E5583CFB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C1426A7-87C0-4061-9FBE-82B2DD15E9C1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F4827FE-0D46-4087-9F3B-25EFADBE941C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7555AEB-D071-44D5-AC21-89C991D2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B2BEFD-E2E5-4D45-8D1E-A3BBE1726EF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76B10-263C-4B43-864F-CBB1488491E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 type="sldNum" idx="10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C9997D-BAA7-4F01-82AB-1E0A3319AE3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 type="sldNum" idx="10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20BCBA-4DCC-4052-A851-71C40311A9C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 type="sldNum" idx="10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7972CE-0DCD-41CD-A42F-4885A8B92F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sldNum" idx="10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0048B8-BF31-415D-8634-C22D90BABA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 type="sldNum" idx="10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1ECF5-EC9B-4E32-9C64-F6372A1DF8A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 type="sldNum" idx="10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539092-87F0-4B63-80E6-4A74200680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sldNum" idx="10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620FC1-2322-4407-9659-EACB0E1BC7F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 type="sldNum" idx="10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9CA2D-2E16-44BD-8765-58216C705AE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 type="sldNum" idx="10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CD7D3B-BFA7-4A8B-8CE0-9A2945A6EB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 type="sldNum" idx="1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DA85F2-B30D-40BC-B0E7-EC4CA81793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BBA648-27CA-49F4-92E5-5112ED649B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 type="sldNum" idx="1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3912DF-099B-48AD-AC3A-601C76F309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 type="sldNum" idx="1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A405CF-0D0C-4906-861A-3570727ACC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 type="sldNum" idx="11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5C4C6-4C9A-4C73-B9D3-4869597B98D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3"/>
          <p:cNvSpPr>
            <a:spLocks noGrp="1"/>
          </p:cNvSpPr>
          <p:nvPr>
            <p:ph type="sldNum" idx="11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9FE378-F349-48D6-85CC-58EEAFDD3A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 type="sldNum" idx="1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6EAB4D-80EF-44CE-AA6F-56585576DC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 type="sldNum" idx="1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3EBDC4-20EB-4B80-A09B-5D7B12EADEF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885CBD-CE21-4425-A1C2-F5569931639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 type="sldNum" idx="1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E3DF53-C265-4717-A37B-5A53B2F8E5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3"/>
          <p:cNvSpPr>
            <a:spLocks noGrp="1"/>
          </p:cNvSpPr>
          <p:nvPr>
            <p:ph type="sldNum" idx="1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774FCE-C5D5-42D3-B857-CC79BACB4AF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 type="sldNum" idx="1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9AAD6-6EAE-45EC-AC2C-57523C72205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CBE72E-633C-4AB8-97E9-70F3AC41D9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3"/>
          <p:cNvSpPr>
            <a:spLocks noGrp="1"/>
          </p:cNvSpPr>
          <p:nvPr>
            <p:ph type="sldNum" idx="1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A084D1-D4C6-409E-811A-AFA90AA35E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 type="sldNum" idx="1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BB6988-6347-4906-A4B3-D7C6DE0572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98AFB9-3764-4689-84C3-6D7BC2DE63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 type="sldNum" idx="1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FE4BC6-340F-41EE-AD60-180BA9DD5C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3"/>
          <p:cNvSpPr>
            <a:spLocks noGrp="1"/>
          </p:cNvSpPr>
          <p:nvPr>
            <p:ph type="sldNum" idx="1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AB4A9-85AB-49C0-BEFA-B38065FBE67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 type="sldNum" idx="1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29CE3-7B60-43EA-989B-F5FC43A302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 type="sldNum" idx="1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C975A7-773D-43AF-8F6A-B1426A3AA14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 type="sldNum" idx="1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5A197E-969C-4F54-8418-4675CC8659B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 type="sldNum" idx="1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F2B6F5-073C-4ADD-8314-A391198D66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 type="sldNum" idx="1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E8B4B0-6842-4DE4-BED9-6A2CF149554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E2702F-ACE1-4964-B041-6670CE802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3"/>
          <p:cNvSpPr>
            <a:spLocks noGrp="1"/>
          </p:cNvSpPr>
          <p:nvPr>
            <p:ph type="sldNum" idx="1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DC43E-736D-4658-A4D7-884BA8E325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sldNum" idx="1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7DE67C-8041-4B9D-B35E-597047E09A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 type="sldNum" idx="1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ECDFCC-EFD9-4086-BBC1-383EE00DAA4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 type="sldNum" idx="1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C051C9-BAE0-40DF-B640-B42C8A3836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3"/>
          <p:cNvSpPr>
            <a:spLocks noGrp="1"/>
          </p:cNvSpPr>
          <p:nvPr>
            <p:ph type="sldNum" idx="1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727F2-1F14-4583-BB6C-F920DF8D7FF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0A956F-0C27-40A1-AF81-8949E9A7273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3"/>
          <p:cNvSpPr>
            <a:spLocks noGrp="1"/>
          </p:cNvSpPr>
          <p:nvPr>
            <p:ph type="sldNum" idx="1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2917BE-D65C-4648-8AD9-CF31AEA3B9D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 type="sldNum" idx="1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C4857B-D51E-4264-8616-C7E2EDBF3A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 type="sldNum" idx="1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6CC1D0-4814-4DE5-9607-A09C23CFDD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 type="sldNum" idx="1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2B496-2653-47DF-A943-4C12B77690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D1E99-F712-40E9-80AB-BA8BEDB81C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3"/>
          <p:cNvSpPr>
            <a:spLocks noGrp="1"/>
          </p:cNvSpPr>
          <p:nvPr>
            <p:ph type="sldNum" idx="1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A0BBD-8D85-4A65-BA51-FCD139C4CA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 type="sldNum" idx="1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44734-F5DC-46B2-8CE6-036CAAFFA27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3"/>
          <p:cNvSpPr>
            <a:spLocks noGrp="1"/>
          </p:cNvSpPr>
          <p:nvPr>
            <p:ph type="sldNum" idx="1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3EF7EA-B798-4C93-829D-F4B09B94B4A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3"/>
          <p:cNvSpPr>
            <a:spLocks noGrp="1"/>
          </p:cNvSpPr>
          <p:nvPr>
            <p:ph type="sldNum" idx="1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6C8241-EC75-48BA-94ED-B9EB77826C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3"/>
          <p:cNvSpPr>
            <a:spLocks noGrp="1"/>
          </p:cNvSpPr>
          <p:nvPr>
            <p:ph type="sldNum" idx="1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24980C-E7B2-44B7-B928-9290834E24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 type="sldNum" idx="1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ADBB81-EAA3-4CDB-917C-F2DA7371BD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 type="dt" idx="14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 type="sldNum" idx="14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488A48-1162-422F-9157-F83F3C432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 type="dt" idx="14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 type="sldNum" idx="15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3A47DD-1F09-402A-B0B2-2DFD7BA4F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 type="dt" idx="15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 type="sldNum" idx="15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ABC4E-D349-4351-8BB3-C363D6434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PlaceHolder 3"/>
          <p:cNvSpPr>
            <a:spLocks noGrp="1"/>
          </p:cNvSpPr>
          <p:nvPr>
            <p:ph type="dt" idx="15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PlaceHolder 4"/>
          <p:cNvSpPr>
            <a:spLocks noGrp="1"/>
          </p:cNvSpPr>
          <p:nvPr>
            <p:ph type="sldNum" idx="15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03F57-1660-4551-947D-20CAC632D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3FD729-C1EB-4EFD-87EF-D7599E1A57D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 type="dt" idx="15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PlaceHolder 4"/>
          <p:cNvSpPr>
            <a:spLocks noGrp="1"/>
          </p:cNvSpPr>
          <p:nvPr>
            <p:ph type="sldNum" idx="15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2001BA-6306-4E90-9980-8A8ECF1AA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PlaceHolder 3"/>
          <p:cNvSpPr>
            <a:spLocks noGrp="1"/>
          </p:cNvSpPr>
          <p:nvPr>
            <p:ph type="dt" idx="15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PlaceHolder 4"/>
          <p:cNvSpPr>
            <a:spLocks noGrp="1"/>
          </p:cNvSpPr>
          <p:nvPr>
            <p:ph type="sldNum" idx="15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1E492-336C-4292-8ECA-12C637863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 type="dt" idx="15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 type="sldNum" idx="16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5F6AE2-F6D9-4144-8747-4357FFB22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 type="dt" idx="16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 type="sldNum" idx="16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E6316D-3DFC-4DA3-8D98-7A2F070B5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16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sldNum" idx="16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508EC8-A4B0-4FB0-BB21-600C80D90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PlaceHolder 3"/>
          <p:cNvSpPr>
            <a:spLocks noGrp="1"/>
          </p:cNvSpPr>
          <p:nvPr>
            <p:ph type="dt" idx="16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4"/>
          <p:cNvSpPr>
            <a:spLocks noGrp="1"/>
          </p:cNvSpPr>
          <p:nvPr>
            <p:ph type="sldNum" idx="16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301E12-22F8-44FA-A017-CCE9B438E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PlaceHolder 3"/>
          <p:cNvSpPr>
            <a:spLocks noGrp="1"/>
          </p:cNvSpPr>
          <p:nvPr>
            <p:ph type="dt" idx="16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PlaceHolder 4"/>
          <p:cNvSpPr>
            <a:spLocks noGrp="1"/>
          </p:cNvSpPr>
          <p:nvPr>
            <p:ph type="sldNum" idx="16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38A1FE-479B-45FC-9108-9B0BE0A41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90BFD3-0F0E-4F73-A5E1-80113F39167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ABBEBE-9F68-4E0C-B10E-234EBF7C8C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3E2D07-A5F8-40FA-8E4E-2CFD58482A1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E6736-FFD0-43AB-89BC-86A92CED21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E17BAA-2F61-4700-A02E-BE385EEBC5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9B496B-38E1-4A58-AA2A-4660E019C86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7C087C-669B-484C-BC84-A0625AC910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23A513-C8CA-4FF3-ADDC-BBFEE4B9BC8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D890DE-212F-4C66-8BFB-CF9B5C237A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9FDC4-A1E9-4B82-8B37-0CB3BBE6FEC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BAF71-544D-4245-AFB1-124C7790FBC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E4632F-52F2-45A7-9999-5F69AF8F16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B550B0-A765-44B6-968A-789F09B8876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88CDB9-CD7A-4FEF-862C-63BDB2439C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96EE33-EF44-4DFA-99DF-87D6D1B69E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276961-A668-46F8-9F3A-9503CB8FE0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DF3179-BABB-4110-9D18-A71B0317568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A9A0E-FFEE-479A-880E-6576E20EF6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62E12D-88DE-4537-8B74-27DDA881AEF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9ADB2-9D1D-4B71-8D75-8956F50B832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91C8F-C86A-4573-9DB4-7EE62A141D5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BE260-D45C-44B9-A206-FD7E15685D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9CCF34-7C78-485C-84E9-FDEBCDAEE8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522E6-6DD9-4708-AF84-CE5BB5F2EBC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3F8918-7E2F-4974-BBB7-57EAB337D0B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112933-5463-4EA1-A411-6DC4E3FD4B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2E079C-DD0E-47E0-A656-CDA7FB87B3A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75E5E6-5894-47C5-BAB7-3ED06C0865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E00E03-B67E-4132-A58D-5469A52774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9B7CC7-52D6-4AA1-84B4-4CBFB615B7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422BB-BF9A-417A-B5E9-8132D81B92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4BA42F-395D-42FD-8352-6DBE8C8A648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56A434-9261-4917-BCEA-8FF6F0FC11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7A107-3C69-4DC8-9466-E0F0B646276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4BB086-FF5D-4931-9184-0DB6696315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2321D2-4F31-4197-B7DB-DA96490514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A1FF3-5DF8-4E2F-82AA-3D071993442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BA9065-ACBD-483A-A01A-56826A5C4E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7067C0-4F44-45C7-8639-7128A2E1CCA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CE09BD-FFB6-4CA2-AF37-61EAFF1E78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DD8BB-49BB-418B-A044-ACBF2313706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986CDF-1966-4B74-8423-EC478393021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C60D8-87E1-4789-AA7D-9CC5CD06EA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5A4A1-0DA9-4320-A761-CEACBA1837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B2A5D-CFE4-4BB3-A3B2-FD447F6C06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642B3-EF00-43AF-8620-0E1709A8AD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472844-C738-4B10-90FC-9DF2174B78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85CD8-F89E-47D4-9991-20B53AE6CE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E24622-6B3B-49B2-9B87-08FED34055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B82CF6-2098-4B0E-AF9C-7CACF61A71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0CFCD8-7DE6-4B18-BB4D-C252A2056EA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BFCF79-5834-4B45-8489-820E54FA2F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sldNum" idx="6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84FB50-1727-4DE0-AF94-9E5F21942DD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EC8CE-A8EC-4B56-9058-FD49BD3503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1DAB26-D476-4D61-AE5E-2EDC236B6CB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sldNum" idx="6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0BB813-9C39-49DD-999D-2AECE2EFA3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5C7F7C-FD5F-4D51-8E1B-93881D5AB3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08B6E6-16C3-4AC4-9589-6E19AD07901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sldNum" idx="7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0DFAB7-E441-452B-9815-00DD6384556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716D4E-A70A-4AA8-86CA-2F759872259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A791E-47BB-4105-BA06-A47CA0DC05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96BFC5-3E3C-4A41-AB81-D53E479719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sldNum" idx="7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E4996A-8608-403F-AFE8-BB63987680F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830C4F-291E-4541-9783-7B3AADEEF2E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BBD3A4-A367-4D0D-ABF5-D4A56512DA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Num" idx="7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17E49-59D5-491F-B354-9B52907A79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C8A7E2-5133-4C94-9FDD-9A50ADEB9F0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6E79FF-CF25-43D1-9BAC-96BA169EDF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 type="sldNum" idx="7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76DC9-09A2-4312-9075-EE386D1E303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CF2C33-467D-4E51-9098-DE166ECB235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B0E21-540B-4372-89B3-7FBDA426419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4461C-6AC7-4BF5-8A2B-0D6B94A046E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sldNum" idx="8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E4D5A8-4AA1-4BC7-87DE-1440CFF088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4B1C8D-3509-44B1-8B5C-BEBCA14A0E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945E2F-C7A2-46C3-9B7E-32068B3C4AB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8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CD460-E516-43DA-A505-B7B3A93FA3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AE74FF-965C-4761-BC39-E409591A716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A20A8A-0721-4C1E-BF59-3000407A73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 type="sldNum" idx="8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B9F0A6-1482-4727-B2F4-98D97C474E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20FF8-643A-42B7-A967-3480A5E52E8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DD6A4-7C18-48F7-AB0D-8560922E12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C0FCB3-EE8C-4E62-AA58-55A74CF505C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 type="sldNum" idx="9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A97D2-8C73-4BD5-9D22-D759CAF77F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sldNum" idx="9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119403-7124-4DAE-9AF6-2926AD18A77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9CAE2F-245E-4AF2-9A6C-0C9F8710B17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sldNum" idx="9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37DA98-E7D6-4CB1-82F1-A750F366B0B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0E4934-C640-4E69-9B9F-2A3990E98A8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DECEC-B63D-4B1A-B7E1-EA29C19585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Num" idx="9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872B7B-DF97-4EA5-98F2-4E692A04C29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 type="sldNum" idx="9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0F4216-F251-4AD8-B12A-230A7171A6C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 type="sldNum" idx="9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21583-C56B-4CE3-A1A6-940DAF4BCD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 type="sldNum" idx="10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F9CEF3-E3F8-4698-809B-FCE5933546C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5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5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Rectangle 3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6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6397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6398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6399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6400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75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76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77" name="Rectangle 5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1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0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0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8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Text Box 1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1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1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7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Text Box 1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6" name="Rectangle 8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3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3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4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4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3" name="Rectangle 8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5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5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Text Box 1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6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6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30:43Z</dcterms:modified>
  <cp:revision>1</cp:revision>
  <dc:subject/>
  <dc:title/>
</cp:coreProperties>
</file>